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32.wmf" ContentType="image/x-wmf"/>
  <Override PartName="/ppt/media/image75.png" ContentType="image/png"/>
  <Override PartName="/ppt/media/image101.jpeg" ContentType="image/jpeg"/>
  <Override PartName="/ppt/media/image29.png" ContentType="image/png"/>
  <Override PartName="/ppt/media/image94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92.png" ContentType="image/png"/>
  <Override PartName="/ppt/media/image27.png" ContentType="image/png"/>
  <Override PartName="/ppt/media/image99.jpeg" ContentType="image/jpeg"/>
  <Override PartName="/ppt/media/image71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6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72.png" ContentType="image/png"/>
  <Override PartName="/ppt/media/image97.jpeg" ContentType="image/jpeg"/>
  <Override PartName="/ppt/media/image87.png" ContentType="image/png"/>
  <Override PartName="/ppt/media/image79.png" ContentType="image/png"/>
  <Override PartName="/ppt/media/image78.png" ContentType="image/png"/>
  <Override PartName="/ppt/media/image7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087-4D7E-440B-9F3C-B932FCA1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25E-5797-45F8-A5A1-E45F7C37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28B-60D1-458E-B22F-F7A4152A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202-8145-4BE7-B8CF-329F1559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406D-10F6-4173-8A00-0F7A7ECF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89C4-FC23-46B4-AF77-B8829FC5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07D4-EFB9-434A-ABE2-D22B13D6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4A1C-FF35-41F2-81B5-8DE17357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5CC0-C7BB-41FE-8581-705879B4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A11E-F8CD-4467-B5AA-DE4D449F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4E4F-5172-4A5C-9825-FA1FFBDA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8E5-D634-404B-993A-AC7F5CF2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22B8-5615-4F9C-862D-AD1198F9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1370-3DC4-4D6D-8204-2BF3DE8D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E312-5901-4E5C-B154-12B4FB21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DE1A-7D7A-48F8-83F1-1A038101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74B2-C23E-468C-B6BD-016A1CA7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C578-18CA-44CB-AF3F-F2148044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B5FAE-B786-4A6B-90E3-908D72AC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B84E-F683-4253-8B0F-E01138A6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0523-1EA5-4DA7-9884-E7539F57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73AD-368E-4049-BE3C-C67A9A47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758-E159-439A-90F9-9B852021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7484-18EF-4F0C-8319-33892F68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3C69-FE00-4DC0-9EC8-AA577D4A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DE62-1E3F-4BC0-9F5B-622BDDD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0CD7-A232-4678-A249-57B4536C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060CA-FF75-48FA-BA74-16FF77A7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DA73-B08D-42A8-B3D0-235917D5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CC12-E28C-4F89-A29F-1F325774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A429-25AC-43EF-B9ED-03790907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B03AE-1F6B-4930-8D21-DB8A1F52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5787-E6F3-4CC4-867C-C70FD26F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F57-1C75-45B8-9476-E4DAA62D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8ADA-FC24-4E32-86B2-93874302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C5612-4590-431B-B681-D2033F05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1F8D-8F0C-4D27-873F-532A19E7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2F60-DEC1-4E9F-ACB9-7855BDC7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8DF0-ECA4-4D08-AE16-60730C5D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CF46A-F5B4-4E31-A8A3-D66F6A7E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47493-58F0-400F-848E-3234D239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1E7B-A72F-4802-BED0-C38DE3A1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FC9B-A400-4DF2-8281-F0DA09BA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6920D-F875-4E37-919B-2A990735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FB0-6250-4C13-A852-65A1A786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2DBAB-476F-44BF-BBA0-667C9B1E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188E-061C-49F8-BD4D-9E7D4E9B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D5596-E097-465E-891E-136A0257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3D9CC-D409-40D2-8184-C20E59E7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75478-6B07-4680-B56D-FDAF6E67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00D7-D766-488B-B314-878E0D3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D78DE-18D7-4798-B679-F0C55353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4629F-C2D8-4CA7-9E8A-F8ED55B7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4C6F2-7AD9-47E1-90DE-A5098753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37DA3-A593-4595-900D-375AE115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ECB-D8A1-42D6-A389-EA005555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56CE7-F878-448D-9B8C-EA1B536C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16904-B451-4BDA-85EA-B62420C9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5801B-C1A6-47D2-A00E-16A7416D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8D467-F96B-417C-A00D-2157D605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23E0F-8FC5-4E2B-B10E-C67FAB5E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1321-DD20-4F37-930A-A8562F79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5CA0-3F71-4985-8791-1CE52AE8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4EF6F-AE88-4ED9-9E2B-E31BD910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C16F6-0B68-4785-8A21-23CA1173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CBA2-B4E7-456D-BFC9-4B104C0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C55-50A8-43AD-8B60-7AAD7140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52D0F-E939-4D0E-BBB1-A5680CAB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3C7AF-70A6-4724-90BD-E41606C5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BC58-3CC2-4DEC-967E-A194E234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0AE6C-33B3-4035-987C-B3698BE0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63C0D-4492-4F03-B94D-55EB2B24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12310-2FB9-4218-BBE7-C9A32D6D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9C0A6-95E8-48C1-B250-AD2C557F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A9CC1-9D5B-45EA-A0B5-D5FCD29F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7F8C1-D3A9-4F19-ABEB-6393BE1A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5E70-A1EF-4237-A31A-8C81B2A2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076-E380-4897-AE8C-B12B773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B36C4-75A2-4668-BD47-960ED814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A4E8-6A63-40C4-843F-77A40EC1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12AA8-4D4A-4350-A0E6-9B3FF333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FEECD-37CC-401B-828B-D1C63B24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3CBAA-AFA0-4DBA-9436-FC467F6D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1A11E-D310-493B-9FFE-1FD6A6F2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A158E-7A66-4664-925D-6CC362B5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DEF4D-58BD-4916-A244-48E5A798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23CE4-6B9D-4E0F-9DBA-58469CB2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0BBAA-72F9-475F-AA5C-D5387235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E3F-1C24-48D1-8518-974B320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99087-D7A6-4ABA-B155-2653C388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41422-D030-4840-9C1A-3F271EB6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8CA3D-E8A3-49FA-92FD-075E5447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D9A36-C2AD-4697-9BED-EBF7D601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2EC52-D6DD-44F1-BC5E-74EE9C45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CC371-E955-49F8-85B8-2AA77DB9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21774-3E34-42AD-AF86-6E1D5E51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3D3B-48DC-428A-BB93-FDAF4C24BE8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FB05-6F50-4CF3-A0C9-F287ED8D2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23B0-0788-44ED-8619-C049D368064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C684-7A63-431E-B213-C2ED4446100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5BF8-78E6-4FEE-B7CB-C876EB18305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2BDC-75A1-4BD4-BA04-2EFD5EB68F8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54AF-18EE-4885-A28C-F97A3AE95DF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8FD6-6766-4269-8B47-E0CB89B6F8C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png"/><Relationship Id="rId3" Type="http://schemas.openxmlformats.org/officeDocument/2006/relationships/image" Target="../media/image98.png"/><Relationship Id="rId4" Type="http://schemas.openxmlformats.org/officeDocument/2006/relationships/hyperlink" Target="http://www.trust.ua/files/photo/4/0000008045-kosmicheskaya-fotosemka-kosmos-foto.jpg" TargetMode="External"/><Relationship Id="rId5" Type="http://schemas.openxmlformats.org/officeDocument/2006/relationships/image" Target="../media/image99.jpeg"/><Relationship Id="rId6" Type="http://schemas.openxmlformats.org/officeDocument/2006/relationships/image" Target="../media/image10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image" Target="../media/image25.png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image" Target="../media/image54.png"/><Relationship Id="rId28" Type="http://schemas.openxmlformats.org/officeDocument/2006/relationships/image" Target="../media/image55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6"/>
          <p:cNvSpPr/>
          <p:nvPr/>
        </p:nvSpPr>
        <p:spPr>
          <a:xfrm>
            <a:off x="1012680" y="1371600"/>
            <a:ext cx="7535880" cy="2085840"/>
          </a:xfrm>
          <a:prstGeom prst="rect">
            <a:avLst/>
          </a:prstGeom>
          <a:solidFill>
            <a:srgbClr val="e3f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>
            <a:off x="3722760" y="4687920"/>
            <a:ext cx="2138400" cy="19044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144440" y="5119560"/>
            <a:ext cx="2135160" cy="26208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982800" y="4979880"/>
            <a:ext cx="2151000" cy="27468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553080" y="3886200"/>
            <a:ext cx="1432080" cy="71928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БУ «Пермский лесопожарный центр»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7"/>
          <p:cNvSpPr/>
          <p:nvPr/>
        </p:nvSpPr>
        <p:spPr>
          <a:xfrm>
            <a:off x="1625760" y="45435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982800" y="4352760"/>
            <a:ext cx="2108160" cy="19080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619200" y="4759200"/>
            <a:ext cx="2463840" cy="42408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е подразд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ые лесничества (137 е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4527720" y="2138400"/>
            <a:ext cx="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847800" y="4221000"/>
            <a:ext cx="2138400" cy="19080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689040" y="3746520"/>
            <a:ext cx="2197080" cy="48276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У « … лесничество»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8 е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1"/>
          <p:cNvSpPr/>
          <p:nvPr/>
        </p:nvSpPr>
        <p:spPr>
          <a:xfrm>
            <a:off x="2111400" y="774720"/>
            <a:ext cx="4836960" cy="479520"/>
          </a:xfrm>
          <a:prstGeom prst="rect">
            <a:avLst/>
          </a:prstGeom>
          <a:solidFill>
            <a:srgbClr val="fdd7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природных ресурсов, лесного хозяйства и экологии Пермск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2"/>
          <p:cNvSpPr/>
          <p:nvPr/>
        </p:nvSpPr>
        <p:spPr>
          <a:xfrm>
            <a:off x="3119400" y="1504800"/>
            <a:ext cx="2960640" cy="633600"/>
          </a:xfrm>
          <a:prstGeom prst="rect">
            <a:avLst/>
          </a:prstGeom>
          <a:solidFill>
            <a:srgbClr val="fee5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сного контроля и государственного пожарного надзора (20 чел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847800" y="-3132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860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труктура управления лесного контроля и государственного пожарного надзора Пермского края на 01.01.201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5"/>
          <p:cNvSpPr/>
          <p:nvPr/>
        </p:nvSpPr>
        <p:spPr>
          <a:xfrm>
            <a:off x="4489560" y="1254240"/>
            <a:ext cx="0" cy="25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8"/>
          <p:cNvSpPr/>
          <p:nvPr/>
        </p:nvSpPr>
        <p:spPr>
          <a:xfrm>
            <a:off x="1031760" y="2468520"/>
            <a:ext cx="2159280" cy="777960"/>
          </a:xfrm>
          <a:prstGeom prst="rect">
            <a:avLst/>
          </a:prstGeom>
          <a:solidFill>
            <a:srgbClr val="e5f6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и планирования мероприятий по контролю и надзору (5 че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9"/>
          <p:cNvSpPr/>
          <p:nvPr/>
        </p:nvSpPr>
        <p:spPr>
          <a:xfrm>
            <a:off x="3541680" y="2468520"/>
            <a:ext cx="2144880" cy="776160"/>
          </a:xfrm>
          <a:prstGeom prst="rect">
            <a:avLst/>
          </a:prstGeom>
          <a:solidFill>
            <a:srgbClr val="e5f6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де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сного контроля и государственного пожарного надзора (10 че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0"/>
          <p:cNvSpPr/>
          <p:nvPr/>
        </p:nvSpPr>
        <p:spPr>
          <a:xfrm>
            <a:off x="6248520" y="2468520"/>
            <a:ext cx="2041560" cy="500040"/>
          </a:xfrm>
          <a:prstGeom prst="rect">
            <a:avLst/>
          </a:prstGeom>
          <a:solidFill>
            <a:srgbClr val="e5f6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раны лесов (4 че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5"/>
          <p:cNvSpPr/>
          <p:nvPr/>
        </p:nvSpPr>
        <p:spPr>
          <a:xfrm>
            <a:off x="7192800" y="34671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1787400" y="345744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3678120" y="4629240"/>
            <a:ext cx="2108160" cy="15372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8"/>
          <p:cNvSpPr/>
          <p:nvPr/>
        </p:nvSpPr>
        <p:spPr>
          <a:xfrm>
            <a:off x="3559320" y="4514760"/>
            <a:ext cx="2138040" cy="19044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3279600" y="3862440"/>
            <a:ext cx="2356200" cy="76680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лесной инспектор Пермского края отдела лесного контроля и ГПН МЛХ ПК  (6 че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6811920" y="5062680"/>
            <a:ext cx="2135160" cy="26352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6651720" y="4923000"/>
            <a:ext cx="2151000" cy="27612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7288200" y="4614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6012000" y="4843440"/>
            <a:ext cx="2619360" cy="282600"/>
          </a:xfrm>
          <a:prstGeom prst="rect">
            <a:avLst/>
          </a:prstGeom>
          <a:solidFill>
            <a:srgbClr val="e7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е подразделения  (4 е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5"/>
          <p:cNvSpPr/>
          <p:nvPr/>
        </p:nvSpPr>
        <p:spPr>
          <a:xfrm>
            <a:off x="4467240" y="346392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144440" y="5738760"/>
            <a:ext cx="2824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- ГЛИ в лесничества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- мониторинг и тушение лесных пожар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"/>
          <p:cNvSpPr/>
          <p:nvPr/>
        </p:nvSpPr>
        <p:spPr>
          <a:xfrm flipH="1">
            <a:off x="2763360" y="410364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2"/>
          <p:cNvSpPr/>
          <p:nvPr/>
        </p:nvSpPr>
        <p:spPr>
          <a:xfrm>
            <a:off x="8613720" y="6305400"/>
            <a:ext cx="395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CEFA-D5FB-466B-96B8-27B7A233A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03280" y="122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нализ результатов работы совместного профилактического мероприятия «Лесной дозор» в ноябре 2013 г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29" name="Содержимое 7" descr=""/>
          <p:cNvPicPr/>
          <p:nvPr/>
        </p:nvPicPr>
        <p:blipFill>
          <a:blip r:embed="rId1"/>
          <a:stretch/>
        </p:blipFill>
        <p:spPr>
          <a:xfrm>
            <a:off x="1432080" y="1450800"/>
            <a:ext cx="7503840" cy="4797720"/>
          </a:xfrm>
          <a:prstGeom prst="rect">
            <a:avLst/>
          </a:prstGeom>
          <a:ln w="0">
            <a:noFill/>
          </a:ln>
        </p:spPr>
      </p:pic>
      <p:sp>
        <p:nvSpPr>
          <p:cNvPr id="630" name="Номер слайда 8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0294-78BF-4C0F-B27D-82AE2BE37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03280" y="122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нализ результатов работы оперативно-профилактического мероприятия «Лесовоз» в марте-апреле 2013 г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32" name="Содержимое 3" descr=""/>
          <p:cNvPicPr/>
          <p:nvPr/>
        </p:nvPicPr>
        <p:blipFill>
          <a:blip r:embed="rId1"/>
          <a:stretch/>
        </p:blipFill>
        <p:spPr>
          <a:xfrm>
            <a:off x="1401840" y="1414440"/>
            <a:ext cx="7497720" cy="4797360"/>
          </a:xfrm>
          <a:prstGeom prst="rect">
            <a:avLst/>
          </a:prstGeom>
          <a:ln w="0">
            <a:noFill/>
          </a:ln>
        </p:spPr>
      </p:pic>
      <p:sp>
        <p:nvSpPr>
          <p:cNvPr id="633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C02C-B13D-4A94-8B28-64B6BE1C0337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нализ результатов работы специального профилактического мероприятия «Новогодняя ель» в 2013 году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690E-5A9B-4769-9988-2154AFCCC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Содержимое 4" descr=""/>
          <p:cNvPicPr/>
          <p:nvPr/>
        </p:nvPicPr>
        <p:blipFill>
          <a:blip r:embed="rId1"/>
          <a:stretch/>
        </p:blipFill>
        <p:spPr>
          <a:xfrm>
            <a:off x="1432080" y="1450800"/>
            <a:ext cx="75038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осударственный лесной надзор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76120" y="1268280"/>
            <a:ext cx="749916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государственного лесного надзора и государственного пожарного надзора в лесах за 20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 проведен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плановых проверо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внеплановых проверок (по требованию прокуратуры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5541-5D7D-45B9-AA1B-44862F9420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трулирование лесов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258920" y="5589360"/>
            <a:ext cx="6842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3 год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запланированных 6225 патрулирований выполнено 6788 (109 %), количество выявленных нарушений 373 или около 6%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54E9-AF0C-40D6-BD88-E51B8832E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Содержимое 10" descr=""/>
          <p:cNvPicPr/>
          <p:nvPr/>
        </p:nvPicPr>
        <p:blipFill>
          <a:blip r:embed="rId1"/>
          <a:stretch/>
        </p:blipFill>
        <p:spPr>
          <a:xfrm>
            <a:off x="828720" y="1054080"/>
            <a:ext cx="79912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1115640" y="1407600"/>
            <a:ext cx="7777080" cy="504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3 года на территории Пермского края выявлено 786 случаев незаконной рубки леса с объемом 49,2 тыс. кубометров с причиненным ущербом на сумму 333,7 млн. рублей, из них 352 случая совершено незаконных рубок древесины неустановленными лицами, с объемом 27,7 тыс. кубометров, с причиненным ущербом на сумму 200,9 млн. руб. В сравнении с аналогичным периодом прошлого года произошло снижение количество случаев незаконной рубки леса снизилось на 25,3 %, объем снизился на 15,3% и ущерб на 17,0%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ыявляемость виновных лиц в совершение незаконных рубок древесины увеличилась на 55,5 %, по ущербу 43,6%, а по объему на 39,8 %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е количество случаев незаконных рубок древесины выявлено 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х лесничествах: Кишертское (99), Кудымкарское (79), Куединское (74), Сивинское (73), Соликамское (69), Октябрьское (56), Закамское (50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7261200" cy="1182600"/>
          </a:xfrm>
          <a:prstGeom prst="rect">
            <a:avLst/>
          </a:prstGeom>
          <a:ln w="0">
            <a:noFill/>
          </a:ln>
        </p:spPr>
      </p:pic>
      <p:sp>
        <p:nvSpPr>
          <p:cNvPr id="646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A5D2-483B-443E-B736-3032B04C5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03280" y="-100440"/>
            <a:ext cx="749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казатели незаконной рубки в 2013 году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в сравнении с аналогичным периодом прошлого года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195640" y="620640"/>
          <a:ext cx="5689440" cy="5808600"/>
        </p:xfrm>
        <a:graphic>
          <a:graphicData uri="http://schemas.openxmlformats.org/drawingml/2006/table">
            <a:tbl>
              <a:tblPr/>
              <a:tblGrid>
                <a:gridCol w="1272960"/>
                <a:gridCol w="555840"/>
                <a:gridCol w="720720"/>
                <a:gridCol w="834840"/>
                <a:gridCol w="647640"/>
                <a:gridCol w="830520"/>
                <a:gridCol w="826920"/>
              </a:tblGrid>
              <a:tr h="168480"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КУ (лесничеств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случа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куб. 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щер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случа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к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щер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ников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5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 22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 706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й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4,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7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ля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6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 833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65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097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озавод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 52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279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я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6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 727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647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ам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 31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 25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зелов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 9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1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9 785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рт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3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5 94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3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5 458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ви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4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4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и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90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30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 257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чёв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3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92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вишер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82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9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 511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ымкар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 0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 903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 4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0 47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еди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6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 09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9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 025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нгур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3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9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 584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сьве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0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 46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7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7 423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8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 557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 82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6 042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 1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 48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ёр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1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 6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2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5 588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0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 87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0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 770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ви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 6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 50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 7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5 456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кам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 57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 83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8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5 74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1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9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 1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 553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ды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8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10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 795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сов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2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 77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2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ли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8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 97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779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сьвин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2,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6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1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 678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2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 72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 13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 87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A98A-BA27-4E79-972D-9BFA75504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Объект 4" descr=""/>
          <p:cNvPicPr/>
          <p:nvPr/>
        </p:nvPicPr>
        <p:blipFill>
          <a:blip r:embed="rId1"/>
          <a:stretch/>
        </p:blipFill>
        <p:spPr>
          <a:xfrm>
            <a:off x="1384200" y="1397160"/>
            <a:ext cx="7601040" cy="525132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95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равнительная характеристика ГКУ (лесничеств) с наибольшим количеством случаев незаконных рубок 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2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2356-B653-4DFB-AA85-9972EFB6A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4995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Динамика случаев, объема лесонарушений и суммы причиненного ущерба от незаконных рубок леса за 6 лет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54" name="Объект 3" descr=""/>
          <p:cNvPicPr/>
          <p:nvPr/>
        </p:nvPicPr>
        <p:blipFill>
          <a:blip r:embed="rId1"/>
          <a:stretch/>
        </p:blipFill>
        <p:spPr>
          <a:xfrm>
            <a:off x="920880" y="714240"/>
            <a:ext cx="4062240" cy="2837160"/>
          </a:xfrm>
          <a:prstGeom prst="rect">
            <a:avLst/>
          </a:prstGeom>
          <a:ln w="0">
            <a:noFill/>
          </a:ln>
        </p:spPr>
      </p:pic>
      <p:pic>
        <p:nvPicPr>
          <p:cNvPr id="655" name="Объект 4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4132080" cy="2765520"/>
          </a:xfrm>
          <a:prstGeom prst="rect">
            <a:avLst/>
          </a:prstGeom>
          <a:ln w="0">
            <a:noFill/>
          </a:ln>
        </p:spPr>
      </p:pic>
      <p:pic>
        <p:nvPicPr>
          <p:cNvPr id="656" name="Объект 5" descr=""/>
          <p:cNvPicPr/>
          <p:nvPr/>
        </p:nvPicPr>
        <p:blipFill>
          <a:blip r:embed="rId3"/>
          <a:stretch/>
        </p:blipFill>
        <p:spPr>
          <a:xfrm>
            <a:off x="2484360" y="3597120"/>
            <a:ext cx="5645160" cy="3084840"/>
          </a:xfrm>
          <a:prstGeom prst="rect">
            <a:avLst/>
          </a:prstGeom>
          <a:ln w="0">
            <a:noFill/>
          </a:ln>
        </p:spPr>
      </p:pic>
      <p:sp>
        <p:nvSpPr>
          <p:cNvPr id="657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7B4F-BACF-433B-9576-F474948CB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Динамика числа, объема лесонарушений и суммы причиненного ущерба от незаконных рубок леса в 2013 году (в сравнении с АППГ)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59" name="Объект 3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4062600" cy="2836800"/>
          </a:xfrm>
          <a:prstGeom prst="rect">
            <a:avLst/>
          </a:prstGeom>
          <a:ln w="0">
            <a:noFill/>
          </a:ln>
        </p:spPr>
      </p:pic>
      <p:pic>
        <p:nvPicPr>
          <p:cNvPr id="660" name="Объект 4" descr=""/>
          <p:cNvPicPr/>
          <p:nvPr/>
        </p:nvPicPr>
        <p:blipFill>
          <a:blip r:embed="rId2"/>
          <a:stretch/>
        </p:blipFill>
        <p:spPr>
          <a:xfrm>
            <a:off x="4737240" y="1001880"/>
            <a:ext cx="4132080" cy="2765160"/>
          </a:xfrm>
          <a:prstGeom prst="rect">
            <a:avLst/>
          </a:prstGeom>
          <a:ln w="0">
            <a:noFill/>
          </a:ln>
        </p:spPr>
      </p:pic>
      <p:pic>
        <p:nvPicPr>
          <p:cNvPr id="661" name="Объект 5" descr=""/>
          <p:cNvPicPr/>
          <p:nvPr/>
        </p:nvPicPr>
        <p:blipFill>
          <a:blip r:embed="rId3"/>
          <a:stretch/>
        </p:blipFill>
        <p:spPr>
          <a:xfrm>
            <a:off x="2433600" y="3665520"/>
            <a:ext cx="5718240" cy="3243240"/>
          </a:xfrm>
          <a:prstGeom prst="rect">
            <a:avLst/>
          </a:prstGeom>
          <a:ln w="0">
            <a:noFill/>
          </a:ln>
        </p:spPr>
      </p:pic>
      <p:sp>
        <p:nvSpPr>
          <p:cNvPr id="662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27E-B710-4453-866D-DAA056260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1403280" y="273600"/>
            <a:ext cx="734544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</a:rPr>
              <a:t>Основ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</a:rPr>
              <a:t>по созданию системы лесного надзора и пожарного надзора в лесах на территории Перм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учение специалистов Министерства  природных ресурсов, лесного хозяйства и экологии Пермского края, государственных лесных инспекто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межведомственной комиссии по вопросам пресечения незаконного оборота древесины и лесоматери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межведомственной рабочей группы по вопросам борьбы с лесными пожа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ыми комиссиями (рабочими группами) по борьбе с незаконным оборотом древесины и вопросам борьбы с лесными пожа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омер слайда 38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BCAC-A862-45A8-B5EB-E38D4422F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дминистративное производство за 2011, 2012, 2013 г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4" name="Прямоугольник 5"/>
          <p:cNvSpPr/>
          <p:nvPr/>
        </p:nvSpPr>
        <p:spPr>
          <a:xfrm>
            <a:off x="1332000" y="5589720"/>
            <a:ext cx="74865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3 году составлено протоколов об административных правонарушениях 823 ш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рассмотрено 848 дел об административных правонарушениях, из них  привлечено к административной ответственности 821 лиц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Объект 3" descr=""/>
          <p:cNvPicPr/>
          <p:nvPr/>
        </p:nvPicPr>
        <p:blipFill>
          <a:blip r:embed="rId1"/>
          <a:stretch/>
        </p:blipFill>
        <p:spPr>
          <a:xfrm>
            <a:off x="1139760" y="930240"/>
            <a:ext cx="7801200" cy="4205160"/>
          </a:xfrm>
          <a:prstGeom prst="rect">
            <a:avLst/>
          </a:prstGeom>
          <a:ln w="0">
            <a:noFill/>
          </a:ln>
        </p:spPr>
      </p:pic>
      <p:sp>
        <p:nvSpPr>
          <p:cNvPr id="666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4044-38FC-4E44-98FD-B679D38F2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удебное производство по административным делам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8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Диаграмма 7" descr=""/>
          <p:cNvPicPr/>
          <p:nvPr/>
        </p:nvPicPr>
        <p:blipFill>
          <a:blip r:embed="rId1"/>
          <a:stretch/>
        </p:blipFill>
        <p:spPr>
          <a:xfrm>
            <a:off x="1496880" y="1217520"/>
            <a:ext cx="6870960" cy="3086280"/>
          </a:xfrm>
          <a:prstGeom prst="rect">
            <a:avLst/>
          </a:prstGeom>
          <a:ln w="0">
            <a:noFill/>
          </a:ln>
        </p:spPr>
      </p:pic>
      <p:sp>
        <p:nvSpPr>
          <p:cNvPr id="670" name="Прямоугольник 8"/>
          <p:cNvSpPr/>
          <p:nvPr/>
        </p:nvSpPr>
        <p:spPr>
          <a:xfrm>
            <a:off x="1476360" y="4941720"/>
            <a:ext cx="73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821 постановления о назначении административного наказания обжалованы в судебном порядке 101 постановление, требования заявителя удовлетворены по 12-ти постановлениям (12 %  из направленных в суд), по 89 постановлениям судом отказано в отмене данных постановлений (88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дминистративное производство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72" name="Объект 3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5502240" cy="3461040"/>
          </a:xfrm>
          <a:prstGeom prst="rect">
            <a:avLst/>
          </a:prstGeom>
          <a:ln w="0">
            <a:noFill/>
          </a:ln>
        </p:spPr>
      </p:pic>
      <p:pic>
        <p:nvPicPr>
          <p:cNvPr id="673" name="Object 4" descr=""/>
          <p:cNvPicPr/>
          <p:nvPr/>
        </p:nvPicPr>
        <p:blipFill>
          <a:blip r:embed="rId2"/>
          <a:stretch/>
        </p:blipFill>
        <p:spPr>
          <a:xfrm>
            <a:off x="4016520" y="3143160"/>
            <a:ext cx="5502240" cy="3405240"/>
          </a:xfrm>
          <a:prstGeom prst="rect">
            <a:avLst/>
          </a:prstGeom>
          <a:ln w="0">
            <a:noFill/>
          </a:ln>
        </p:spPr>
      </p:pic>
      <p:sp>
        <p:nvSpPr>
          <p:cNvPr id="674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B33C-A5BA-43D3-AFC4-F1D3B9153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ля привлеченных лиц по видам лесонарушений в 2013 году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76" name="Объект 3" descr=""/>
          <p:cNvPicPr/>
          <p:nvPr/>
        </p:nvPicPr>
        <p:blipFill>
          <a:blip r:embed="rId1"/>
          <a:stretch/>
        </p:blipFill>
        <p:spPr>
          <a:xfrm>
            <a:off x="1384200" y="1397160"/>
            <a:ext cx="7601040" cy="4902120"/>
          </a:xfrm>
          <a:prstGeom prst="rect">
            <a:avLst/>
          </a:prstGeom>
          <a:ln w="0">
            <a:noFill/>
          </a:ln>
        </p:spPr>
      </p:pic>
      <p:sp>
        <p:nvSpPr>
          <p:cNvPr id="67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44CD-8547-4CC1-B018-F9303E24E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дминистративное производство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79" name="Объект 3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7601040" cy="4902120"/>
          </a:xfrm>
          <a:prstGeom prst="rect">
            <a:avLst/>
          </a:prstGeom>
          <a:ln w="0">
            <a:noFill/>
          </a:ln>
        </p:spPr>
      </p:pic>
      <p:sp>
        <p:nvSpPr>
          <p:cNvPr id="68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C716-83A9-4C83-A840-EBB2D4B25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Дистанционный мониторинг использования лесов 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258560" y="765000"/>
            <a:ext cx="767556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дистанционного мониторинга использования лесов в 2012 году на территории Пермского края выявлено 231 лесосека с предполагаемыми нарушениями лесного законодательства, на площади 732,6 га, объемом 129 300 куб. м, с ориентировочным размером 490 385 тыс. руб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натурных обследований проверены все 231 лесосека, нарушения подтвердились на 85 лесосеках, что составляет 37%. По всем 85 случаям незаконных рубок сообщено в правоохранительные органы, направлены заявления для установления виновных лиц и привлечения их к уголовной ответственност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оянию на 1 января 2014 года отказано правоохранительными органами в возбуждении уголовного дела – 56 (66% от всех случаев незаконных рубок), возбуждено уголовных дел – 5 (6%), находятся на стадии рассмотрения в правоохранительных органах – 24 (28%)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о административных дел 8 (9%), из них наложено штрафов в административном порядке 8 шт. на сумму 293 тыс. руб., из них 2 постановления о назначении административного наказания отменены решением суда, из них Прекращено 4 административных дела в связи с истечением срока давности, отказано в возбуждении административного дела в отношении 18 лиц (21 %) в связи с истечением срока давности привлечения к ответственност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3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B24A-87DD-45EB-AB9B-D4C5FA437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03280" y="33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головное производство по результатам ДМ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85" name="Объект 5" descr=""/>
          <p:cNvPicPr/>
          <p:nvPr/>
        </p:nvPicPr>
        <p:blipFill>
          <a:blip r:embed="rId1"/>
          <a:stretch/>
        </p:blipFill>
        <p:spPr>
          <a:xfrm>
            <a:off x="1004760" y="857160"/>
            <a:ext cx="8166240" cy="6367680"/>
          </a:xfrm>
          <a:prstGeom prst="rect">
            <a:avLst/>
          </a:prstGeom>
          <a:ln w="0">
            <a:noFill/>
          </a:ln>
        </p:spPr>
      </p:pic>
      <p:sp>
        <p:nvSpPr>
          <p:cNvPr id="686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3CA7-87F6-49C4-834C-698C6E706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дминистративное производство по результатам ДМ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88" name="Объект 3" descr=""/>
          <p:cNvPicPr/>
          <p:nvPr/>
        </p:nvPicPr>
        <p:blipFill>
          <a:blip r:embed="rId1"/>
          <a:stretch/>
        </p:blipFill>
        <p:spPr>
          <a:xfrm>
            <a:off x="1384200" y="1397160"/>
            <a:ext cx="7601040" cy="4902120"/>
          </a:xfrm>
          <a:prstGeom prst="rect">
            <a:avLst/>
          </a:prstGeom>
          <a:ln w="0">
            <a:noFill/>
          </a:ln>
        </p:spPr>
      </p:pic>
      <p:sp>
        <p:nvSpPr>
          <p:cNvPr id="68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A67E-80AA-4BE9-A3B4-DC311C1D2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вижение административных дел по результатам ДМ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91" name="Объект 3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7601040" cy="4902120"/>
          </a:xfrm>
          <a:prstGeom prst="rect">
            <a:avLst/>
          </a:prstGeom>
          <a:ln w="0">
            <a:noFill/>
          </a:ln>
        </p:spPr>
      </p:pic>
      <p:sp>
        <p:nvSpPr>
          <p:cNvPr id="692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FD7B-D958-4417-8463-70D575BF9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61"/>
          <p:cNvSpPr/>
          <p:nvPr/>
        </p:nvSpPr>
        <p:spPr>
          <a:xfrm>
            <a:off x="1120680" y="763560"/>
            <a:ext cx="7515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ся к специальным видам обследования лесов, который включает контроль за соответствием рубок леса действующим нормативам, состоянием лесных земель, подвергшихся воздействию в процессе использования лесов, прежде всего в результате проведения сплошных руб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ффективной оценки порядка использования лесов применяются материалы космической съемки. Использование которых обусловлено их повышенной обзорностью и повторяемостью съемки одной и той же территории с заданной или периодической регулярностью при высоком спектральном и пространственном разреш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лесного дистанционного мониторинга (в ее космическом и наземном сегменте) в перспективе должна обеспеч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 непрерывное поступление материалов съемки высокого разрешения (2–10 м) в региональные центры обработ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ное покрытие всей территории мониторинга безоблачной съемкой высокого разрешения (6–10 м) за бесснежный период год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ное покрытие всей территории мониторинга съемками с разрешением 1.0 – 2.5 м в течение 3–5 лет для решения задач государственной инвентаризации лес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епенное увеличение площади мониторинга вплоть до охват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лесного фонда Российской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ю систем хранения, каталогизации и обработки материалов съемки в региональных центрах мониторин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"/>
          <p:cNvSpPr/>
          <p:nvPr/>
        </p:nvSpPr>
        <p:spPr>
          <a:xfrm>
            <a:off x="1549440" y="33336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истема дистанционного мониторинга использования ле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79B2-7E20-4ED5-BB28-35795A50C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Деятельность управления лесного контроля и государственного пожарного надзор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187280" y="1447560"/>
            <a:ext cx="7747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лесной надзор и федеральный государственный пожарный надзор в лес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плановых и внеплановых проверок, патрулирование лесо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межведомственной комиссии по вопросам пресечения оборота древесины и лесоматериал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незаконных рубок леса с применением методов дистанционного мониторинг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производства дел об административных правонарушениях в области охраны окружающей среды и природопользова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храны лесов, в том числе выполнение мер пожарной безопасности в лесах и тушение пожаров в лесах, расположенных на землях лесного фонд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00D1-DB0A-42DD-AA1C-8E3769722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2"/>
          <p:cNvSpPr/>
          <p:nvPr/>
        </p:nvSpPr>
        <p:spPr>
          <a:xfrm rot="966600">
            <a:off x="6037200" y="1542960"/>
            <a:ext cx="2376720" cy="1295640"/>
          </a:xfrm>
          <a:custGeom>
            <a:avLst/>
            <a:gdLst>
              <a:gd name="textAreaLeft" fmla="*/ 415800 w 2376720"/>
              <a:gd name="textAreaRight" fmla="*/ 1723320 w 2376720"/>
              <a:gd name="textAreaTop" fmla="*/ 173520 h 1295640"/>
              <a:gd name="textAreaBottom" fmla="*/ 11221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3"/>
          <p:cNvSpPr/>
          <p:nvPr/>
        </p:nvSpPr>
        <p:spPr>
          <a:xfrm rot="19143600">
            <a:off x="3921120" y="4255560"/>
            <a:ext cx="3024360" cy="1165320"/>
          </a:xfrm>
          <a:custGeom>
            <a:avLst/>
            <a:gdLst>
              <a:gd name="textAreaLeft" fmla="*/ 529200 w 3024360"/>
              <a:gd name="textAreaRight" fmla="*/ 2192760 w 3024360"/>
              <a:gd name="textAreaTop" fmla="*/ 155880 h 1165320"/>
              <a:gd name="textAreaBottom" fmla="*/ 1009440 h 11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4"/>
          <p:cNvSpPr/>
          <p:nvPr/>
        </p:nvSpPr>
        <p:spPr>
          <a:xfrm rot="18134400">
            <a:off x="609480" y="3756240"/>
            <a:ext cx="1218960" cy="243828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26600 h 2438280"/>
              <a:gd name="textAreaBottom" fmla="*/ 17679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6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2340000" y="378936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СМИЧЕСКАЯ             СЪЕМ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3780000" y="1413000"/>
            <a:ext cx="26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ТУРНАЯ ПРОВЕ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2268360" y="1916280"/>
            <a:ext cx="18720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 анализ исходных данных на лесничество (за предыдущий период - до апреля, за 1 квартал текущего года – до мая, за 2 квартал – до авгу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2205000" y="4884840"/>
            <a:ext cx="165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9"/>
          <p:cNvSpPr/>
          <p:nvPr/>
        </p:nvSpPr>
        <p:spPr>
          <a:xfrm>
            <a:off x="6804000" y="37162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ервичных документов для предъявления претензий, исков к наруш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0"/>
          <p:cNvSpPr/>
          <p:nvPr/>
        </p:nvSpPr>
        <p:spPr>
          <a:xfrm>
            <a:off x="128520" y="141588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ГОТОВИТЕЛЬНЫЕ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1"/>
          <p:cNvSpPr/>
          <p:nvPr/>
        </p:nvSpPr>
        <p:spPr>
          <a:xfrm>
            <a:off x="611280" y="4365720"/>
            <a:ext cx="1800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97000"/>
          </a:bodyPr>
          <a:p>
            <a:pPr marL="175320" indent="-17532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смическая съемка (май- авгус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материалов, дешифрирование и анализ разреши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12" descr="KARTA"/>
          <p:cNvPicPr/>
          <p:nvPr/>
        </p:nvPicPr>
        <p:blipFill>
          <a:blip r:embed="rId1"/>
          <a:stretch/>
        </p:blipFill>
        <p:spPr>
          <a:xfrm>
            <a:off x="320760" y="1911240"/>
            <a:ext cx="1904760" cy="175752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13"/>
          <p:cNvSpPr/>
          <p:nvPr/>
        </p:nvSpPr>
        <p:spPr>
          <a:xfrm>
            <a:off x="6620040" y="4941720"/>
            <a:ext cx="25239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Bef>
                <a:spcPts val="938"/>
              </a:spcBef>
              <a:buSzPct val="100000"/>
              <a:buBlip>
                <a:blip r:embed="rId2"/>
              </a:buBlip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ЗЫСКАНИЕ УЩЕРБ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еисполнения договорных усло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938"/>
              </a:spcBef>
              <a:buSzPct val="100000"/>
              <a:buBlip>
                <a:blip r:embed="rId3"/>
              </a:buBlip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ПРЕКРАЩЕНИЕ         ПРАВ ПОЛЬЗОВАНИЯ ЛЕСНЫМИ УЧАСТ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5" descr="Картинка 3 из 162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11280" y="4365720"/>
            <a:ext cx="1871640" cy="179856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6"/>
          <p:cNvSpPr/>
          <p:nvPr/>
        </p:nvSpPr>
        <p:spPr>
          <a:xfrm>
            <a:off x="4500720" y="3563640"/>
            <a:ext cx="187164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выборочных натурных проверок достоверности и качества дешифрирования материалов космических съем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лесонарушений и нарушений лесохозяйственных требований на основе дешифрирования космосним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6"/>
          <a:stretch/>
        </p:blipFill>
        <p:spPr>
          <a:xfrm>
            <a:off x="4356000" y="1844640"/>
            <a:ext cx="2014560" cy="17398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18"/>
          <p:cNvSpPr/>
          <p:nvPr/>
        </p:nvSpPr>
        <p:spPr>
          <a:xfrm>
            <a:off x="7018200" y="1771560"/>
            <a:ext cx="2125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ГОТОВКА ОТЧЕТНОЙ ДОКУМЕНТАЦИИ И СДАЧА РАБ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9"/>
          <p:cNvSpPr/>
          <p:nvPr/>
        </p:nvSpPr>
        <p:spPr>
          <a:xfrm>
            <a:off x="6877080" y="3208680"/>
            <a:ext cx="212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НЯТИЕ МЕР ПО ИТОГАМ РАБ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21"/>
          <p:cNvSpPr/>
          <p:nvPr/>
        </p:nvSpPr>
        <p:spPr>
          <a:xfrm>
            <a:off x="684360" y="368280"/>
            <a:ext cx="78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Этапы дистанционного мониторинга ле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2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F9B6-78F7-45DA-99A2-C4D8FBDDB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5" descr="C:\Users\efyusupova\Desktop\elize.jpg"/>
          <p:cNvPicPr/>
          <p:nvPr/>
        </p:nvPicPr>
        <p:blipFill>
          <a:blip r:embed="rId1"/>
          <a:stretch/>
        </p:blipFill>
        <p:spPr>
          <a:xfrm>
            <a:off x="2484360" y="260280"/>
            <a:ext cx="6686640" cy="6597720"/>
          </a:xfrm>
          <a:prstGeom prst="rect">
            <a:avLst/>
          </a:prstGeom>
          <a:ln w="0">
            <a:noFill/>
          </a:ln>
        </p:spPr>
      </p:pic>
      <p:sp>
        <p:nvSpPr>
          <p:cNvPr id="716" name="TextBox 2"/>
          <p:cNvSpPr/>
          <p:nvPr/>
        </p:nvSpPr>
        <p:spPr>
          <a:xfrm>
            <a:off x="900000" y="9360"/>
            <a:ext cx="89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рритория Пермского края, охваченная дистанцион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ониторин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755640" y="549360"/>
          <a:ext cx="3117960" cy="6119640"/>
        </p:xfrm>
        <a:graphic>
          <a:graphicData uri="http://schemas.openxmlformats.org/drawingml/2006/table">
            <a:tbl>
              <a:tblPr/>
              <a:tblGrid>
                <a:gridCol w="841320"/>
                <a:gridCol w="2276640"/>
              </a:tblGrid>
              <a:tr h="28404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ерритория ГКУ (лесничест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8542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005-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ай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резников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ликам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лви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асновишер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рды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5652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резников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й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есля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ай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рнозавод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лви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асновишер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ликам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рды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усов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йви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1244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резников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й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рнозавод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усов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йви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136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резников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й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рнозавод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усов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йви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5392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й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асновишер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рдынско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Юрли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дымкар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иви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13832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есля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рнозавод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бря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чев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дымкар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ысьве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айков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Юрлин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718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EDAD-3E65-4284-BBCB-7B36B275D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268200" y="3151080"/>
            <a:ext cx="8642520" cy="3313080"/>
          </a:xfrm>
          <a:prstGeom prst="rect">
            <a:avLst/>
          </a:prstGeom>
          <a:solidFill>
            <a:srgbClr val="ccffcc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74680" y="981000"/>
            <a:ext cx="8569440" cy="180036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6611760" y="1987560"/>
            <a:ext cx="1872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6899400" y="1123920"/>
            <a:ext cx="1008000" cy="6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36480" y="188640"/>
            <a:ext cx="835344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истема </a:t>
            </a: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лесного</a:t>
            </a: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и пожарного надзора в развитие Лесного кодекс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498680" y="1916280"/>
            <a:ext cx="3878280" cy="720720"/>
          </a:xfrm>
          <a:prstGeom prst="roundRect">
            <a:avLst>
              <a:gd name="adj" fmla="val 16667"/>
            </a:avLst>
          </a:prstGeom>
          <a:solidFill>
            <a:srgbClr val="aa8a14"/>
          </a:solidFill>
          <a:ln w="38160">
            <a:solidFill>
              <a:srgbClr val="c0c0c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сударственная инспекция по экологии и природопользованию Перм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6467400" y="1987560"/>
            <a:ext cx="212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Главный, Старший… государственные лесные инспе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5675400" y="1771560"/>
            <a:ext cx="838080" cy="914400"/>
          </a:xfrm>
          <a:prstGeom prst="rightArrow">
            <a:avLst>
              <a:gd name="adj1" fmla="val 67593"/>
              <a:gd name="adj2" fmla="val 6500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AutoShape 10"/>
          <p:cNvCxnSpPr/>
          <p:nvPr/>
        </p:nvCxnSpPr>
        <p:spPr>
          <a:xfrm rot="5400000">
            <a:off x="3516480" y="1770480"/>
            <a:ext cx="432360" cy="2520"/>
          </a:xfrm>
          <a:prstGeom prst="bentConnector3">
            <a:avLst>
              <a:gd name="adj1" fmla="val -4000"/>
            </a:avLst>
          </a:prstGeom>
          <a:ln w="63360">
            <a:solidFill>
              <a:srgbClr val="808000"/>
            </a:solidFill>
            <a:miter/>
            <a:tailEnd len="med" type="triangle" w="med"/>
          </a:ln>
        </p:spPr>
      </p:cxnSp>
      <p:sp>
        <p:nvSpPr>
          <p:cNvPr id="404" name="Text Box 11"/>
          <p:cNvSpPr/>
          <p:nvPr/>
        </p:nvSpPr>
        <p:spPr>
          <a:xfrm>
            <a:off x="5532480" y="1987560"/>
            <a:ext cx="1008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10 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6756480" y="1123920"/>
            <a:ext cx="12952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0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2075040" y="1123920"/>
            <a:ext cx="3733560" cy="527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c0c0c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авительство Перм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977160" y="4303800"/>
            <a:ext cx="1871640" cy="576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335720" y="3440160"/>
            <a:ext cx="1008360" cy="6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927000" y="5095800"/>
            <a:ext cx="7645680" cy="10382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8"/>
          <p:cNvSpPr/>
          <p:nvPr/>
        </p:nvSpPr>
        <p:spPr>
          <a:xfrm>
            <a:off x="2079720" y="4221000"/>
            <a:ext cx="3733560" cy="720720"/>
          </a:xfrm>
          <a:prstGeom prst="roundRect">
            <a:avLst>
              <a:gd name="adj" fmla="val 16667"/>
            </a:avLst>
          </a:prstGeom>
          <a:solidFill>
            <a:srgbClr val="aa8a14"/>
          </a:solidFill>
          <a:ln w="38160">
            <a:solidFill>
              <a:srgbClr val="c0c0c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нистерство природных ресурсов лесного хозяйства и экологии Перм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9"/>
          <p:cNvSpPr/>
          <p:nvPr/>
        </p:nvSpPr>
        <p:spPr>
          <a:xfrm>
            <a:off x="1071720" y="5219640"/>
            <a:ext cx="2395440" cy="668520"/>
          </a:xfrm>
          <a:prstGeom prst="flowChartMultidocument">
            <a:avLst/>
          </a:prstGeom>
          <a:solidFill>
            <a:srgbClr val="8dc765"/>
          </a:solidFill>
          <a:ln w="38160">
            <a:solidFill>
              <a:srgbClr val="c0c0c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КУ (Лесничество) (2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AutoShape 21"/>
          <p:cNvCxnSpPr>
            <a:stCxn id="410" idx="1"/>
          </p:cNvCxnSpPr>
          <p:nvPr/>
        </p:nvCxnSpPr>
        <p:spPr>
          <a:xfrm flipV="1" rot="10800000">
            <a:off x="710640" y="4581000"/>
            <a:ext cx="1369080" cy="1116720"/>
          </a:xfrm>
          <a:prstGeom prst="bentConnector3">
            <a:avLst>
              <a:gd name="adj1" fmla="val 97711"/>
            </a:avLst>
          </a:prstGeom>
          <a:ln w="63360">
            <a:solidFill>
              <a:srgbClr val="808000"/>
            </a:solidFill>
            <a:miter/>
            <a:tailEnd len="med" type="triangle" w="med"/>
          </a:ln>
        </p:spPr>
      </p:cxnSp>
      <p:sp>
        <p:nvSpPr>
          <p:cNvPr id="413" name="Rectangle 22"/>
          <p:cNvSpPr/>
          <p:nvPr/>
        </p:nvSpPr>
        <p:spPr>
          <a:xfrm>
            <a:off x="3735360" y="5091120"/>
            <a:ext cx="187200" cy="94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4024440" y="5240160"/>
            <a:ext cx="1352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ректор (Леснич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ст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ректора лес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24"/>
          <p:cNvSpPr/>
          <p:nvPr/>
        </p:nvSpPr>
        <p:spPr>
          <a:xfrm>
            <a:off x="3808440" y="5240160"/>
            <a:ext cx="154080" cy="1540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5"/>
          <p:cNvSpPr/>
          <p:nvPr/>
        </p:nvSpPr>
        <p:spPr>
          <a:xfrm>
            <a:off x="3808440" y="5672160"/>
            <a:ext cx="154080" cy="1540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6"/>
          <p:cNvSpPr/>
          <p:nvPr/>
        </p:nvSpPr>
        <p:spPr>
          <a:xfrm>
            <a:off x="6904080" y="4303800"/>
            <a:ext cx="2124000" cy="5583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Главный, Старший… государственные лесные инспе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7"/>
          <p:cNvSpPr/>
          <p:nvPr/>
        </p:nvSpPr>
        <p:spPr>
          <a:xfrm>
            <a:off x="6111720" y="4087800"/>
            <a:ext cx="838440" cy="914400"/>
          </a:xfrm>
          <a:prstGeom prst="rightArrow">
            <a:avLst>
              <a:gd name="adj1" fmla="val 67593"/>
              <a:gd name="adj2" fmla="val 6500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1"/>
          <p:cNvSpPr/>
          <p:nvPr/>
        </p:nvSpPr>
        <p:spPr>
          <a:xfrm>
            <a:off x="5392800" y="5168880"/>
            <a:ext cx="838080" cy="914400"/>
          </a:xfrm>
          <a:prstGeom prst="rightArrow">
            <a:avLst>
              <a:gd name="adj1" fmla="val 67593"/>
              <a:gd name="adj2" fmla="val 65000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AutoShape 33"/>
          <p:cNvCxnSpPr/>
          <p:nvPr/>
        </p:nvCxnSpPr>
        <p:spPr>
          <a:xfrm rot="5400000">
            <a:off x="3952800" y="4087080"/>
            <a:ext cx="432720" cy="2160"/>
          </a:xfrm>
          <a:prstGeom prst="bentConnector3">
            <a:avLst>
              <a:gd name="adj1" fmla="val -3996"/>
            </a:avLst>
          </a:prstGeom>
          <a:ln w="63360">
            <a:solidFill>
              <a:srgbClr val="808000"/>
            </a:solidFill>
            <a:miter/>
            <a:tailEnd len="med" type="triangle" w="med"/>
          </a:ln>
        </p:spPr>
      </p:cxnSp>
      <p:cxnSp>
        <p:nvCxnSpPr>
          <p:cNvPr id="421" name="AutoShape 34"/>
          <p:cNvCxnSpPr/>
          <p:nvPr/>
        </p:nvCxnSpPr>
        <p:spPr>
          <a:xfrm>
            <a:off x="711000" y="5672160"/>
            <a:ext cx="432360" cy="2160"/>
          </a:xfrm>
          <a:prstGeom prst="bentConnector3">
            <a:avLst>
              <a:gd name="adj1" fmla="val 50000"/>
            </a:avLst>
          </a:prstGeom>
          <a:ln w="63360">
            <a:solidFill>
              <a:srgbClr val="808000"/>
            </a:solidFill>
            <a:miter/>
            <a:tailEnd len="med" type="triangle" w="med"/>
          </a:ln>
        </p:spPr>
      </p:cxnSp>
      <p:sp>
        <p:nvSpPr>
          <p:cNvPr id="422" name="Text Box 37"/>
          <p:cNvSpPr/>
          <p:nvPr/>
        </p:nvSpPr>
        <p:spPr>
          <a:xfrm>
            <a:off x="6327720" y="5384880"/>
            <a:ext cx="2124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таршие государств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лесные инспе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8"/>
          <p:cNvSpPr/>
          <p:nvPr/>
        </p:nvSpPr>
        <p:spPr>
          <a:xfrm>
            <a:off x="5248440" y="5384880"/>
            <a:ext cx="1008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58 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969160" y="4303800"/>
            <a:ext cx="1152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22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192800" y="3440160"/>
            <a:ext cx="1295640" cy="559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80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2"/>
          <p:cNvSpPr/>
          <p:nvPr/>
        </p:nvSpPr>
        <p:spPr>
          <a:xfrm>
            <a:off x="2511360" y="3440160"/>
            <a:ext cx="3733920" cy="527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c0c0c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авительство Перм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419040" y="1123920"/>
            <a:ext cx="1295640" cy="507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ff"/>
                </a:solidFill>
                <a:latin typeface="Arial"/>
              </a:rPr>
              <a:t>До 11.2011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496800" y="3440160"/>
            <a:ext cx="1295640" cy="507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ff"/>
                </a:solidFill>
                <a:latin typeface="Arial"/>
              </a:rPr>
              <a:t>После 10.2013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3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7FFF-20F7-4ACE-8BBA-3F9E4BC7A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66360" y="163440"/>
            <a:ext cx="6791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Размещение государственных лесных инспекторов </a:t>
            </a:r>
            <a:br>
              <a:rPr sz="1800"/>
            </a:br>
            <a:r>
              <a:rPr b="1" lang="ru-RU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Пермского края по зонам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Text Box 97"/>
          <p:cNvSpPr/>
          <p:nvPr/>
        </p:nvSpPr>
        <p:spPr>
          <a:xfrm>
            <a:off x="3203640" y="4653000"/>
            <a:ext cx="1838160" cy="2764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веро-запа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8"/>
          <p:cNvSpPr/>
          <p:nvPr/>
        </p:nvSpPr>
        <p:spPr>
          <a:xfrm>
            <a:off x="3203640" y="5084640"/>
            <a:ext cx="1866960" cy="2764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веро-восточная</a:t>
            </a:r>
            <a:r>
              <a:rPr b="1" lang="ru-RU" sz="1200" spc="-1" strike="noStrike">
                <a:solidFill>
                  <a:srgbClr val="8dc765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9"/>
          <p:cNvSpPr/>
          <p:nvPr/>
        </p:nvSpPr>
        <p:spPr>
          <a:xfrm>
            <a:off x="2771640" y="3141720"/>
            <a:ext cx="2716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10000">
                <a:solidFill>
                  <a:srgbClr val="000000"/>
                </a:solidFill>
                <a:latin typeface="Times New Roman"/>
              </a:rPr>
              <a:t>Зоны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10000">
                <a:solidFill>
                  <a:srgbClr val="000000"/>
                </a:solidFill>
                <a:latin typeface="Times New Roman"/>
              </a:rPr>
              <a:t>государственных лесных инспекторов  Министерства природных ресурсов, лесного хозяйства и эк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10000">
                <a:solidFill>
                  <a:srgbClr val="000000"/>
                </a:solidFill>
                <a:latin typeface="Times New Roman"/>
              </a:rPr>
              <a:t>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0"/>
          <p:cNvSpPr/>
          <p:nvPr/>
        </p:nvSpPr>
        <p:spPr>
          <a:xfrm>
            <a:off x="3203640" y="5516640"/>
            <a:ext cx="18432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01"/>
          <p:cNvGraphicFramePr/>
          <p:nvPr/>
        </p:nvGraphicFramePr>
        <p:xfrm>
          <a:off x="179280" y="1341360"/>
          <a:ext cx="2492640" cy="474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6" name="Object 1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24926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116"/>
          <p:cNvSpPr/>
          <p:nvPr/>
        </p:nvSpPr>
        <p:spPr>
          <a:xfrm>
            <a:off x="2558160" y="2104920"/>
            <a:ext cx="781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 Перм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7"/>
          <p:cNvSpPr/>
          <p:nvPr/>
        </p:nvSpPr>
        <p:spPr>
          <a:xfrm>
            <a:off x="3367800" y="2060640"/>
            <a:ext cx="21542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мещение государствен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лесных инспекторов Министер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родных ресурсов, лесно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хозяйства и эк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2"/>
          <p:cNvSpPr/>
          <p:nvPr/>
        </p:nvSpPr>
        <p:spPr>
          <a:xfrm>
            <a:off x="6478560" y="750960"/>
            <a:ext cx="1108080" cy="140004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1400040"/>
              <a:gd name="textAreaBottom" fmla="*/ 1400400 h 1400040"/>
            </a:gdLst>
            <a:ahLst/>
            <a:rect l="textAreaLeft" t="textAreaTop" r="textAreaRight" b="textAreaBottom"/>
            <a:pathLst>
              <a:path w="1216" h="1559">
                <a:moveTo>
                  <a:pt x="0" y="469"/>
                </a:moveTo>
                <a:lnTo>
                  <a:pt x="42" y="298"/>
                </a:lnTo>
                <a:lnTo>
                  <a:pt x="137" y="315"/>
                </a:lnTo>
                <a:lnTo>
                  <a:pt x="190" y="123"/>
                </a:lnTo>
                <a:lnTo>
                  <a:pt x="475" y="194"/>
                </a:lnTo>
                <a:lnTo>
                  <a:pt x="531" y="0"/>
                </a:lnTo>
                <a:lnTo>
                  <a:pt x="905" y="96"/>
                </a:lnTo>
                <a:lnTo>
                  <a:pt x="870" y="126"/>
                </a:lnTo>
                <a:lnTo>
                  <a:pt x="815" y="247"/>
                </a:lnTo>
                <a:lnTo>
                  <a:pt x="865" y="262"/>
                </a:lnTo>
                <a:lnTo>
                  <a:pt x="855" y="400"/>
                </a:lnTo>
                <a:lnTo>
                  <a:pt x="813" y="407"/>
                </a:lnTo>
                <a:lnTo>
                  <a:pt x="793" y="585"/>
                </a:lnTo>
                <a:lnTo>
                  <a:pt x="865" y="602"/>
                </a:lnTo>
                <a:lnTo>
                  <a:pt x="863" y="649"/>
                </a:lnTo>
                <a:lnTo>
                  <a:pt x="905" y="659"/>
                </a:lnTo>
                <a:lnTo>
                  <a:pt x="902" y="695"/>
                </a:lnTo>
                <a:lnTo>
                  <a:pt x="993" y="720"/>
                </a:lnTo>
                <a:lnTo>
                  <a:pt x="993" y="784"/>
                </a:lnTo>
                <a:lnTo>
                  <a:pt x="994" y="824"/>
                </a:lnTo>
                <a:lnTo>
                  <a:pt x="984" y="864"/>
                </a:lnTo>
                <a:lnTo>
                  <a:pt x="984" y="876"/>
                </a:lnTo>
                <a:lnTo>
                  <a:pt x="1003" y="906"/>
                </a:lnTo>
                <a:lnTo>
                  <a:pt x="993" y="959"/>
                </a:lnTo>
                <a:lnTo>
                  <a:pt x="1015" y="964"/>
                </a:lnTo>
                <a:lnTo>
                  <a:pt x="1046" y="927"/>
                </a:lnTo>
                <a:lnTo>
                  <a:pt x="1092" y="932"/>
                </a:lnTo>
                <a:lnTo>
                  <a:pt x="1112" y="932"/>
                </a:lnTo>
                <a:lnTo>
                  <a:pt x="1157" y="943"/>
                </a:lnTo>
                <a:lnTo>
                  <a:pt x="1169" y="972"/>
                </a:lnTo>
                <a:lnTo>
                  <a:pt x="1191" y="987"/>
                </a:lnTo>
                <a:lnTo>
                  <a:pt x="1216" y="1012"/>
                </a:lnTo>
                <a:lnTo>
                  <a:pt x="1184" y="1091"/>
                </a:lnTo>
                <a:lnTo>
                  <a:pt x="1132" y="1090"/>
                </a:lnTo>
                <a:lnTo>
                  <a:pt x="1090" y="1117"/>
                </a:lnTo>
                <a:lnTo>
                  <a:pt x="1051" y="1172"/>
                </a:lnTo>
                <a:lnTo>
                  <a:pt x="1065" y="1199"/>
                </a:lnTo>
                <a:lnTo>
                  <a:pt x="1013" y="1209"/>
                </a:lnTo>
                <a:lnTo>
                  <a:pt x="949" y="1214"/>
                </a:lnTo>
                <a:lnTo>
                  <a:pt x="947" y="1271"/>
                </a:lnTo>
                <a:lnTo>
                  <a:pt x="989" y="1317"/>
                </a:lnTo>
                <a:lnTo>
                  <a:pt x="964" y="1389"/>
                </a:lnTo>
                <a:lnTo>
                  <a:pt x="936" y="1384"/>
                </a:lnTo>
                <a:lnTo>
                  <a:pt x="915" y="1409"/>
                </a:lnTo>
                <a:lnTo>
                  <a:pt x="907" y="1448"/>
                </a:lnTo>
                <a:lnTo>
                  <a:pt x="897" y="1498"/>
                </a:lnTo>
                <a:lnTo>
                  <a:pt x="897" y="1544"/>
                </a:lnTo>
                <a:lnTo>
                  <a:pt x="865" y="1559"/>
                </a:lnTo>
                <a:lnTo>
                  <a:pt x="838" y="1556"/>
                </a:lnTo>
                <a:lnTo>
                  <a:pt x="804" y="1529"/>
                </a:lnTo>
                <a:lnTo>
                  <a:pt x="783" y="1508"/>
                </a:lnTo>
                <a:lnTo>
                  <a:pt x="781" y="1482"/>
                </a:lnTo>
                <a:lnTo>
                  <a:pt x="722" y="1451"/>
                </a:lnTo>
                <a:lnTo>
                  <a:pt x="700" y="1483"/>
                </a:lnTo>
                <a:lnTo>
                  <a:pt x="670" y="1458"/>
                </a:lnTo>
                <a:lnTo>
                  <a:pt x="625" y="1446"/>
                </a:lnTo>
                <a:lnTo>
                  <a:pt x="601" y="1443"/>
                </a:lnTo>
                <a:lnTo>
                  <a:pt x="596" y="1482"/>
                </a:lnTo>
                <a:lnTo>
                  <a:pt x="494" y="1458"/>
                </a:lnTo>
                <a:lnTo>
                  <a:pt x="479" y="1519"/>
                </a:lnTo>
                <a:lnTo>
                  <a:pt x="247" y="1473"/>
                </a:lnTo>
                <a:lnTo>
                  <a:pt x="216" y="1302"/>
                </a:lnTo>
                <a:lnTo>
                  <a:pt x="129" y="1327"/>
                </a:lnTo>
                <a:lnTo>
                  <a:pt x="102" y="1329"/>
                </a:lnTo>
                <a:lnTo>
                  <a:pt x="144" y="1112"/>
                </a:lnTo>
                <a:lnTo>
                  <a:pt x="5" y="1066"/>
                </a:lnTo>
                <a:lnTo>
                  <a:pt x="45" y="890"/>
                </a:lnTo>
                <a:lnTo>
                  <a:pt x="57" y="762"/>
                </a:lnTo>
                <a:lnTo>
                  <a:pt x="74" y="695"/>
                </a:lnTo>
                <a:lnTo>
                  <a:pt x="69" y="619"/>
                </a:lnTo>
                <a:lnTo>
                  <a:pt x="104" y="560"/>
                </a:lnTo>
                <a:lnTo>
                  <a:pt x="112" y="500"/>
                </a:lnTo>
                <a:lnTo>
                  <a:pt x="0" y="469"/>
                </a:lnTo>
                <a:close/>
              </a:path>
            </a:pathLst>
          </a:custGeom>
          <a:solidFill>
            <a:srgbClr val="00b0f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5535720" y="1039680"/>
            <a:ext cx="1084320" cy="117648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w="1193" h="1309">
                <a:moveTo>
                  <a:pt x="1" y="953"/>
                </a:moveTo>
                <a:lnTo>
                  <a:pt x="1" y="817"/>
                </a:lnTo>
                <a:lnTo>
                  <a:pt x="0" y="761"/>
                </a:lnTo>
                <a:lnTo>
                  <a:pt x="5" y="721"/>
                </a:lnTo>
                <a:lnTo>
                  <a:pt x="50" y="731"/>
                </a:lnTo>
                <a:lnTo>
                  <a:pt x="114" y="507"/>
                </a:lnTo>
                <a:lnTo>
                  <a:pt x="147" y="504"/>
                </a:lnTo>
                <a:lnTo>
                  <a:pt x="144" y="452"/>
                </a:lnTo>
                <a:lnTo>
                  <a:pt x="156" y="422"/>
                </a:lnTo>
                <a:lnTo>
                  <a:pt x="184" y="406"/>
                </a:lnTo>
                <a:lnTo>
                  <a:pt x="247" y="168"/>
                </a:lnTo>
                <a:lnTo>
                  <a:pt x="304" y="183"/>
                </a:lnTo>
                <a:lnTo>
                  <a:pt x="346" y="0"/>
                </a:lnTo>
                <a:lnTo>
                  <a:pt x="1041" y="179"/>
                </a:lnTo>
                <a:lnTo>
                  <a:pt x="1051" y="159"/>
                </a:lnTo>
                <a:lnTo>
                  <a:pt x="1157" y="190"/>
                </a:lnTo>
                <a:lnTo>
                  <a:pt x="1157" y="218"/>
                </a:lnTo>
                <a:lnTo>
                  <a:pt x="1145" y="255"/>
                </a:lnTo>
                <a:lnTo>
                  <a:pt x="1120" y="302"/>
                </a:lnTo>
                <a:lnTo>
                  <a:pt x="1114" y="393"/>
                </a:lnTo>
                <a:lnTo>
                  <a:pt x="1100" y="467"/>
                </a:lnTo>
                <a:lnTo>
                  <a:pt x="1090" y="576"/>
                </a:lnTo>
                <a:lnTo>
                  <a:pt x="1085" y="642"/>
                </a:lnTo>
                <a:lnTo>
                  <a:pt x="1066" y="687"/>
                </a:lnTo>
                <a:lnTo>
                  <a:pt x="1058" y="733"/>
                </a:lnTo>
                <a:lnTo>
                  <a:pt x="1053" y="765"/>
                </a:lnTo>
                <a:lnTo>
                  <a:pt x="1193" y="805"/>
                </a:lnTo>
                <a:lnTo>
                  <a:pt x="1142" y="1019"/>
                </a:lnTo>
                <a:lnTo>
                  <a:pt x="1100" y="1052"/>
                </a:lnTo>
                <a:lnTo>
                  <a:pt x="1038" y="1002"/>
                </a:lnTo>
                <a:lnTo>
                  <a:pt x="947" y="978"/>
                </a:lnTo>
                <a:lnTo>
                  <a:pt x="920" y="988"/>
                </a:lnTo>
                <a:lnTo>
                  <a:pt x="872" y="998"/>
                </a:lnTo>
                <a:lnTo>
                  <a:pt x="867" y="987"/>
                </a:lnTo>
                <a:lnTo>
                  <a:pt x="838" y="988"/>
                </a:lnTo>
                <a:lnTo>
                  <a:pt x="828" y="1012"/>
                </a:lnTo>
                <a:lnTo>
                  <a:pt x="803" y="1017"/>
                </a:lnTo>
                <a:lnTo>
                  <a:pt x="816" y="1029"/>
                </a:lnTo>
                <a:lnTo>
                  <a:pt x="833" y="1042"/>
                </a:lnTo>
                <a:lnTo>
                  <a:pt x="830" y="1061"/>
                </a:lnTo>
                <a:lnTo>
                  <a:pt x="845" y="1061"/>
                </a:lnTo>
                <a:lnTo>
                  <a:pt x="862" y="1045"/>
                </a:lnTo>
                <a:lnTo>
                  <a:pt x="873" y="1064"/>
                </a:lnTo>
                <a:lnTo>
                  <a:pt x="893" y="1039"/>
                </a:lnTo>
                <a:lnTo>
                  <a:pt x="897" y="1064"/>
                </a:lnTo>
                <a:lnTo>
                  <a:pt x="927" y="1074"/>
                </a:lnTo>
                <a:lnTo>
                  <a:pt x="929" y="1106"/>
                </a:lnTo>
                <a:lnTo>
                  <a:pt x="910" y="1116"/>
                </a:lnTo>
                <a:lnTo>
                  <a:pt x="915" y="1167"/>
                </a:lnTo>
                <a:lnTo>
                  <a:pt x="850" y="1150"/>
                </a:lnTo>
                <a:lnTo>
                  <a:pt x="826" y="1145"/>
                </a:lnTo>
                <a:lnTo>
                  <a:pt x="796" y="1140"/>
                </a:lnTo>
                <a:lnTo>
                  <a:pt x="786" y="1135"/>
                </a:lnTo>
                <a:lnTo>
                  <a:pt x="781" y="1160"/>
                </a:lnTo>
                <a:lnTo>
                  <a:pt x="769" y="1178"/>
                </a:lnTo>
                <a:lnTo>
                  <a:pt x="714" y="1172"/>
                </a:lnTo>
                <a:lnTo>
                  <a:pt x="707" y="1195"/>
                </a:lnTo>
                <a:lnTo>
                  <a:pt x="700" y="1224"/>
                </a:lnTo>
                <a:lnTo>
                  <a:pt x="700" y="1241"/>
                </a:lnTo>
                <a:lnTo>
                  <a:pt x="719" y="1247"/>
                </a:lnTo>
                <a:lnTo>
                  <a:pt x="734" y="1252"/>
                </a:lnTo>
                <a:lnTo>
                  <a:pt x="730" y="1272"/>
                </a:lnTo>
                <a:lnTo>
                  <a:pt x="756" y="1274"/>
                </a:lnTo>
                <a:lnTo>
                  <a:pt x="697" y="1279"/>
                </a:lnTo>
                <a:lnTo>
                  <a:pt x="670" y="1281"/>
                </a:lnTo>
                <a:lnTo>
                  <a:pt x="628" y="1274"/>
                </a:lnTo>
                <a:lnTo>
                  <a:pt x="616" y="1283"/>
                </a:lnTo>
                <a:lnTo>
                  <a:pt x="601" y="1271"/>
                </a:lnTo>
                <a:lnTo>
                  <a:pt x="576" y="1289"/>
                </a:lnTo>
                <a:lnTo>
                  <a:pt x="546" y="1291"/>
                </a:lnTo>
                <a:lnTo>
                  <a:pt x="504" y="1301"/>
                </a:lnTo>
                <a:lnTo>
                  <a:pt x="475" y="1303"/>
                </a:lnTo>
                <a:lnTo>
                  <a:pt x="438" y="1309"/>
                </a:lnTo>
                <a:lnTo>
                  <a:pt x="410" y="1303"/>
                </a:lnTo>
                <a:lnTo>
                  <a:pt x="378" y="1299"/>
                </a:lnTo>
                <a:lnTo>
                  <a:pt x="362" y="1288"/>
                </a:lnTo>
                <a:lnTo>
                  <a:pt x="344" y="1293"/>
                </a:lnTo>
                <a:lnTo>
                  <a:pt x="312" y="1289"/>
                </a:lnTo>
                <a:lnTo>
                  <a:pt x="278" y="1286"/>
                </a:lnTo>
                <a:lnTo>
                  <a:pt x="250" y="1272"/>
                </a:lnTo>
                <a:lnTo>
                  <a:pt x="215" y="1256"/>
                </a:lnTo>
                <a:lnTo>
                  <a:pt x="176" y="1251"/>
                </a:lnTo>
                <a:lnTo>
                  <a:pt x="134" y="1133"/>
                </a:lnTo>
                <a:lnTo>
                  <a:pt x="127" y="1104"/>
                </a:lnTo>
                <a:lnTo>
                  <a:pt x="112" y="1076"/>
                </a:lnTo>
                <a:lnTo>
                  <a:pt x="87" y="1047"/>
                </a:lnTo>
                <a:lnTo>
                  <a:pt x="67" y="1020"/>
                </a:lnTo>
                <a:lnTo>
                  <a:pt x="48" y="995"/>
                </a:lnTo>
                <a:lnTo>
                  <a:pt x="30" y="966"/>
                </a:lnTo>
                <a:lnTo>
                  <a:pt x="1" y="953"/>
                </a:lnTo>
                <a:close/>
              </a:path>
            </a:pathLst>
          </a:custGeom>
          <a:solidFill>
            <a:srgbClr val="92d05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5969160" y="1351080"/>
            <a:ext cx="127080" cy="2746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6792840" y="1351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Group 6" descr=""/>
          <p:cNvPicPr/>
          <p:nvPr/>
        </p:nvPicPr>
        <p:blipFill>
          <a:blip r:embed="rId3"/>
          <a:stretch/>
        </p:blipFill>
        <p:spPr>
          <a:xfrm>
            <a:off x="7711920" y="4218120"/>
            <a:ext cx="1108080" cy="830160"/>
          </a:xfrm>
          <a:prstGeom prst="rect">
            <a:avLst/>
          </a:prstGeom>
          <a:ln w="0">
            <a:noFill/>
          </a:ln>
        </p:spPr>
      </p:pic>
      <p:pic>
        <p:nvPicPr>
          <p:cNvPr id="444" name="Group 9" descr=""/>
          <p:cNvPicPr/>
          <p:nvPr/>
        </p:nvPicPr>
        <p:blipFill>
          <a:blip r:embed="rId4"/>
          <a:stretch/>
        </p:blipFill>
        <p:spPr>
          <a:xfrm>
            <a:off x="5662440" y="2743200"/>
            <a:ext cx="1165320" cy="1066680"/>
          </a:xfrm>
          <a:prstGeom prst="rect">
            <a:avLst/>
          </a:prstGeom>
          <a:ln w="0">
            <a:noFill/>
          </a:ln>
        </p:spPr>
      </p:pic>
      <p:pic>
        <p:nvPicPr>
          <p:cNvPr id="445" name="Group 12" descr=""/>
          <p:cNvPicPr/>
          <p:nvPr/>
        </p:nvPicPr>
        <p:blipFill>
          <a:blip r:embed="rId5"/>
          <a:stretch/>
        </p:blipFill>
        <p:spPr>
          <a:xfrm>
            <a:off x="6748560" y="2560680"/>
            <a:ext cx="1042920" cy="822240"/>
          </a:xfrm>
          <a:prstGeom prst="rect">
            <a:avLst/>
          </a:prstGeom>
          <a:ln w="0">
            <a:noFill/>
          </a:ln>
        </p:spPr>
      </p:pic>
      <p:pic>
        <p:nvPicPr>
          <p:cNvPr id="446" name="Group 15" descr=""/>
          <p:cNvPicPr/>
          <p:nvPr/>
        </p:nvPicPr>
        <p:blipFill>
          <a:blip r:embed="rId6"/>
          <a:stretch/>
        </p:blipFill>
        <p:spPr>
          <a:xfrm>
            <a:off x="6991200" y="326700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447" name="Group 18" descr=""/>
          <p:cNvPicPr/>
          <p:nvPr/>
        </p:nvPicPr>
        <p:blipFill>
          <a:blip r:embed="rId7"/>
          <a:stretch/>
        </p:blipFill>
        <p:spPr>
          <a:xfrm>
            <a:off x="6913440" y="4498920"/>
            <a:ext cx="914400" cy="1384200"/>
          </a:xfrm>
          <a:prstGeom prst="rect">
            <a:avLst/>
          </a:prstGeom>
          <a:ln w="0">
            <a:noFill/>
          </a:ln>
        </p:spPr>
      </p:pic>
      <p:pic>
        <p:nvPicPr>
          <p:cNvPr id="448" name="Group 21" descr=""/>
          <p:cNvPicPr/>
          <p:nvPr/>
        </p:nvPicPr>
        <p:blipFill>
          <a:blip r:embed="rId8"/>
          <a:stretch/>
        </p:blipFill>
        <p:spPr>
          <a:xfrm>
            <a:off x="6656400" y="1994040"/>
            <a:ext cx="1414440" cy="809640"/>
          </a:xfrm>
          <a:prstGeom prst="rect">
            <a:avLst/>
          </a:prstGeom>
          <a:ln w="0">
            <a:noFill/>
          </a:ln>
        </p:spPr>
      </p:pic>
      <p:sp>
        <p:nvSpPr>
          <p:cNvPr id="449" name="Freeform 24"/>
          <p:cNvSpPr/>
          <p:nvPr/>
        </p:nvSpPr>
        <p:spPr>
          <a:xfrm>
            <a:off x="5370480" y="2448000"/>
            <a:ext cx="1225440" cy="730080"/>
          </a:xfrm>
          <a:custGeom>
            <a:avLst/>
            <a:gdLst>
              <a:gd name="textAreaLeft" fmla="*/ 0 w 1225440"/>
              <a:gd name="textAreaRight" fmla="*/ 1225800 w 122544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1346" h="810">
                <a:moveTo>
                  <a:pt x="301" y="0"/>
                </a:moveTo>
                <a:lnTo>
                  <a:pt x="406" y="54"/>
                </a:lnTo>
                <a:lnTo>
                  <a:pt x="376" y="144"/>
                </a:lnTo>
                <a:lnTo>
                  <a:pt x="427" y="166"/>
                </a:lnTo>
                <a:lnTo>
                  <a:pt x="416" y="210"/>
                </a:lnTo>
                <a:lnTo>
                  <a:pt x="462" y="222"/>
                </a:lnTo>
                <a:lnTo>
                  <a:pt x="448" y="254"/>
                </a:lnTo>
                <a:lnTo>
                  <a:pt x="516" y="279"/>
                </a:lnTo>
                <a:lnTo>
                  <a:pt x="546" y="291"/>
                </a:lnTo>
                <a:lnTo>
                  <a:pt x="584" y="314"/>
                </a:lnTo>
                <a:lnTo>
                  <a:pt x="653" y="329"/>
                </a:lnTo>
                <a:lnTo>
                  <a:pt x="680" y="324"/>
                </a:lnTo>
                <a:lnTo>
                  <a:pt x="707" y="345"/>
                </a:lnTo>
                <a:lnTo>
                  <a:pt x="744" y="360"/>
                </a:lnTo>
                <a:lnTo>
                  <a:pt x="776" y="368"/>
                </a:lnTo>
                <a:lnTo>
                  <a:pt x="843" y="363"/>
                </a:lnTo>
                <a:lnTo>
                  <a:pt x="868" y="341"/>
                </a:lnTo>
                <a:lnTo>
                  <a:pt x="917" y="314"/>
                </a:lnTo>
                <a:lnTo>
                  <a:pt x="937" y="304"/>
                </a:lnTo>
                <a:lnTo>
                  <a:pt x="968" y="289"/>
                </a:lnTo>
                <a:lnTo>
                  <a:pt x="993" y="267"/>
                </a:lnTo>
                <a:lnTo>
                  <a:pt x="1026" y="267"/>
                </a:lnTo>
                <a:lnTo>
                  <a:pt x="1050" y="240"/>
                </a:lnTo>
                <a:lnTo>
                  <a:pt x="1053" y="210"/>
                </a:lnTo>
                <a:lnTo>
                  <a:pt x="1099" y="210"/>
                </a:lnTo>
                <a:lnTo>
                  <a:pt x="1152" y="224"/>
                </a:lnTo>
                <a:lnTo>
                  <a:pt x="1204" y="235"/>
                </a:lnTo>
                <a:lnTo>
                  <a:pt x="1199" y="281"/>
                </a:lnTo>
                <a:lnTo>
                  <a:pt x="1231" y="303"/>
                </a:lnTo>
                <a:lnTo>
                  <a:pt x="1257" y="316"/>
                </a:lnTo>
                <a:lnTo>
                  <a:pt x="1282" y="328"/>
                </a:lnTo>
                <a:lnTo>
                  <a:pt x="1275" y="368"/>
                </a:lnTo>
                <a:lnTo>
                  <a:pt x="1267" y="408"/>
                </a:lnTo>
                <a:lnTo>
                  <a:pt x="1289" y="417"/>
                </a:lnTo>
                <a:lnTo>
                  <a:pt x="1346" y="430"/>
                </a:lnTo>
                <a:lnTo>
                  <a:pt x="1327" y="491"/>
                </a:lnTo>
                <a:lnTo>
                  <a:pt x="1307" y="561"/>
                </a:lnTo>
                <a:lnTo>
                  <a:pt x="1302" y="588"/>
                </a:lnTo>
                <a:lnTo>
                  <a:pt x="1210" y="550"/>
                </a:lnTo>
                <a:lnTo>
                  <a:pt x="1208" y="568"/>
                </a:lnTo>
                <a:lnTo>
                  <a:pt x="1171" y="567"/>
                </a:lnTo>
                <a:lnTo>
                  <a:pt x="1142" y="555"/>
                </a:lnTo>
                <a:lnTo>
                  <a:pt x="1100" y="541"/>
                </a:lnTo>
                <a:lnTo>
                  <a:pt x="1092" y="573"/>
                </a:lnTo>
                <a:lnTo>
                  <a:pt x="1033" y="555"/>
                </a:lnTo>
                <a:lnTo>
                  <a:pt x="1003" y="541"/>
                </a:lnTo>
                <a:lnTo>
                  <a:pt x="942" y="540"/>
                </a:lnTo>
                <a:lnTo>
                  <a:pt x="944" y="563"/>
                </a:lnTo>
                <a:lnTo>
                  <a:pt x="947" y="585"/>
                </a:lnTo>
                <a:lnTo>
                  <a:pt x="936" y="605"/>
                </a:lnTo>
                <a:lnTo>
                  <a:pt x="917" y="617"/>
                </a:lnTo>
                <a:lnTo>
                  <a:pt x="900" y="634"/>
                </a:lnTo>
                <a:lnTo>
                  <a:pt x="884" y="642"/>
                </a:lnTo>
                <a:lnTo>
                  <a:pt x="860" y="639"/>
                </a:lnTo>
                <a:lnTo>
                  <a:pt x="848" y="629"/>
                </a:lnTo>
                <a:lnTo>
                  <a:pt x="831" y="625"/>
                </a:lnTo>
                <a:lnTo>
                  <a:pt x="828" y="635"/>
                </a:lnTo>
                <a:lnTo>
                  <a:pt x="793" y="625"/>
                </a:lnTo>
                <a:lnTo>
                  <a:pt x="776" y="627"/>
                </a:lnTo>
                <a:lnTo>
                  <a:pt x="771" y="635"/>
                </a:lnTo>
                <a:lnTo>
                  <a:pt x="749" y="642"/>
                </a:lnTo>
                <a:lnTo>
                  <a:pt x="737" y="652"/>
                </a:lnTo>
                <a:lnTo>
                  <a:pt x="737" y="671"/>
                </a:lnTo>
                <a:lnTo>
                  <a:pt x="721" y="681"/>
                </a:lnTo>
                <a:lnTo>
                  <a:pt x="710" y="703"/>
                </a:lnTo>
                <a:lnTo>
                  <a:pt x="695" y="728"/>
                </a:lnTo>
                <a:lnTo>
                  <a:pt x="667" y="731"/>
                </a:lnTo>
                <a:lnTo>
                  <a:pt x="643" y="713"/>
                </a:lnTo>
                <a:lnTo>
                  <a:pt x="591" y="723"/>
                </a:lnTo>
                <a:lnTo>
                  <a:pt x="554" y="715"/>
                </a:lnTo>
                <a:lnTo>
                  <a:pt x="531" y="716"/>
                </a:lnTo>
                <a:lnTo>
                  <a:pt x="519" y="706"/>
                </a:lnTo>
                <a:lnTo>
                  <a:pt x="517" y="740"/>
                </a:lnTo>
                <a:lnTo>
                  <a:pt x="502" y="736"/>
                </a:lnTo>
                <a:lnTo>
                  <a:pt x="463" y="731"/>
                </a:lnTo>
                <a:lnTo>
                  <a:pt x="460" y="753"/>
                </a:lnTo>
                <a:lnTo>
                  <a:pt x="430" y="758"/>
                </a:lnTo>
                <a:lnTo>
                  <a:pt x="420" y="750"/>
                </a:lnTo>
                <a:lnTo>
                  <a:pt x="385" y="736"/>
                </a:lnTo>
                <a:lnTo>
                  <a:pt x="354" y="728"/>
                </a:lnTo>
                <a:lnTo>
                  <a:pt x="341" y="698"/>
                </a:lnTo>
                <a:lnTo>
                  <a:pt x="324" y="676"/>
                </a:lnTo>
                <a:lnTo>
                  <a:pt x="321" y="699"/>
                </a:lnTo>
                <a:lnTo>
                  <a:pt x="316" y="716"/>
                </a:lnTo>
                <a:lnTo>
                  <a:pt x="317" y="720"/>
                </a:lnTo>
                <a:lnTo>
                  <a:pt x="317" y="725"/>
                </a:lnTo>
                <a:lnTo>
                  <a:pt x="316" y="730"/>
                </a:lnTo>
                <a:lnTo>
                  <a:pt x="312" y="735"/>
                </a:lnTo>
                <a:lnTo>
                  <a:pt x="304" y="743"/>
                </a:lnTo>
                <a:lnTo>
                  <a:pt x="301" y="748"/>
                </a:lnTo>
                <a:lnTo>
                  <a:pt x="289" y="765"/>
                </a:lnTo>
                <a:lnTo>
                  <a:pt x="314" y="810"/>
                </a:lnTo>
                <a:lnTo>
                  <a:pt x="223" y="778"/>
                </a:lnTo>
                <a:lnTo>
                  <a:pt x="183" y="763"/>
                </a:lnTo>
                <a:lnTo>
                  <a:pt x="149" y="772"/>
                </a:lnTo>
                <a:lnTo>
                  <a:pt x="112" y="765"/>
                </a:lnTo>
                <a:lnTo>
                  <a:pt x="94" y="745"/>
                </a:lnTo>
                <a:lnTo>
                  <a:pt x="69" y="706"/>
                </a:lnTo>
                <a:lnTo>
                  <a:pt x="55" y="661"/>
                </a:lnTo>
                <a:lnTo>
                  <a:pt x="43" y="634"/>
                </a:lnTo>
                <a:lnTo>
                  <a:pt x="30" y="595"/>
                </a:lnTo>
                <a:lnTo>
                  <a:pt x="15" y="560"/>
                </a:lnTo>
                <a:lnTo>
                  <a:pt x="6" y="535"/>
                </a:lnTo>
                <a:lnTo>
                  <a:pt x="0" y="498"/>
                </a:lnTo>
                <a:lnTo>
                  <a:pt x="18" y="466"/>
                </a:lnTo>
                <a:lnTo>
                  <a:pt x="57" y="410"/>
                </a:lnTo>
                <a:lnTo>
                  <a:pt x="99" y="346"/>
                </a:lnTo>
                <a:lnTo>
                  <a:pt x="109" y="271"/>
                </a:lnTo>
                <a:lnTo>
                  <a:pt x="129" y="227"/>
                </a:lnTo>
                <a:lnTo>
                  <a:pt x="143" y="166"/>
                </a:lnTo>
                <a:lnTo>
                  <a:pt x="156" y="102"/>
                </a:lnTo>
                <a:lnTo>
                  <a:pt x="164" y="70"/>
                </a:lnTo>
                <a:lnTo>
                  <a:pt x="180" y="52"/>
                </a:lnTo>
                <a:lnTo>
                  <a:pt x="233" y="62"/>
                </a:lnTo>
                <a:lnTo>
                  <a:pt x="274" y="74"/>
                </a:lnTo>
                <a:lnTo>
                  <a:pt x="285" y="35"/>
                </a:lnTo>
                <a:lnTo>
                  <a:pt x="301" y="0"/>
                </a:lnTo>
                <a:close/>
              </a:path>
            </a:pathLst>
          </a:custGeom>
          <a:solidFill>
            <a:srgbClr val="92d05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5537160" y="2770200"/>
            <a:ext cx="253800" cy="2746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Group 26" descr=""/>
          <p:cNvPicPr/>
          <p:nvPr/>
        </p:nvPicPr>
        <p:blipFill>
          <a:blip r:embed="rId9"/>
          <a:stretch/>
        </p:blipFill>
        <p:spPr>
          <a:xfrm>
            <a:off x="7778880" y="3292560"/>
            <a:ext cx="804600" cy="1011240"/>
          </a:xfrm>
          <a:prstGeom prst="rect">
            <a:avLst/>
          </a:prstGeom>
          <a:ln w="0">
            <a:noFill/>
          </a:ln>
        </p:spPr>
      </p:pic>
      <p:pic>
        <p:nvPicPr>
          <p:cNvPr id="452" name="Group 32" descr=""/>
          <p:cNvPicPr/>
          <p:nvPr/>
        </p:nvPicPr>
        <p:blipFill>
          <a:blip r:embed="rId10"/>
          <a:stretch/>
        </p:blipFill>
        <p:spPr>
          <a:xfrm>
            <a:off x="6497640" y="4352760"/>
            <a:ext cx="909720" cy="779760"/>
          </a:xfrm>
          <a:prstGeom prst="rect">
            <a:avLst/>
          </a:prstGeom>
          <a:ln w="0">
            <a:noFill/>
          </a:ln>
        </p:spPr>
      </p:pic>
      <p:pic>
        <p:nvPicPr>
          <p:cNvPr id="453" name="Group 35" descr=""/>
          <p:cNvPicPr/>
          <p:nvPr/>
        </p:nvPicPr>
        <p:blipFill>
          <a:blip r:embed="rId11"/>
          <a:stretch/>
        </p:blipFill>
        <p:spPr>
          <a:xfrm>
            <a:off x="5735520" y="4638600"/>
            <a:ext cx="7621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38"/>
          <p:cNvGrpSpPr/>
          <p:nvPr/>
        </p:nvGrpSpPr>
        <p:grpSpPr>
          <a:xfrm>
            <a:off x="5568840" y="5484960"/>
            <a:ext cx="982800" cy="924840"/>
            <a:chOff x="5568840" y="5484960"/>
            <a:chExt cx="982800" cy="924840"/>
          </a:xfrm>
        </p:grpSpPr>
        <p:sp>
          <p:nvSpPr>
            <p:cNvPr id="455" name="Freeform 39"/>
            <p:cNvSpPr/>
            <p:nvPr/>
          </p:nvSpPr>
          <p:spPr>
            <a:xfrm>
              <a:off x="5568840" y="5484960"/>
              <a:ext cx="982800" cy="9248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074" h="1030">
                  <a:moveTo>
                    <a:pt x="435" y="1030"/>
                  </a:moveTo>
                  <a:lnTo>
                    <a:pt x="450" y="993"/>
                  </a:lnTo>
                  <a:lnTo>
                    <a:pt x="472" y="968"/>
                  </a:lnTo>
                  <a:lnTo>
                    <a:pt x="479" y="923"/>
                  </a:lnTo>
                  <a:lnTo>
                    <a:pt x="501" y="881"/>
                  </a:lnTo>
                  <a:lnTo>
                    <a:pt x="524" y="825"/>
                  </a:lnTo>
                  <a:lnTo>
                    <a:pt x="548" y="777"/>
                  </a:lnTo>
                  <a:lnTo>
                    <a:pt x="580" y="724"/>
                  </a:lnTo>
                  <a:lnTo>
                    <a:pt x="608" y="686"/>
                  </a:lnTo>
                  <a:lnTo>
                    <a:pt x="608" y="657"/>
                  </a:lnTo>
                  <a:lnTo>
                    <a:pt x="659" y="654"/>
                  </a:lnTo>
                  <a:lnTo>
                    <a:pt x="669" y="627"/>
                  </a:lnTo>
                  <a:lnTo>
                    <a:pt x="707" y="615"/>
                  </a:lnTo>
                  <a:lnTo>
                    <a:pt x="711" y="602"/>
                  </a:lnTo>
                  <a:lnTo>
                    <a:pt x="746" y="605"/>
                  </a:lnTo>
                  <a:lnTo>
                    <a:pt x="763" y="585"/>
                  </a:lnTo>
                  <a:lnTo>
                    <a:pt x="791" y="576"/>
                  </a:lnTo>
                  <a:lnTo>
                    <a:pt x="798" y="556"/>
                  </a:lnTo>
                  <a:lnTo>
                    <a:pt x="840" y="536"/>
                  </a:lnTo>
                  <a:lnTo>
                    <a:pt x="875" y="538"/>
                  </a:lnTo>
                  <a:lnTo>
                    <a:pt x="889" y="524"/>
                  </a:lnTo>
                  <a:lnTo>
                    <a:pt x="914" y="511"/>
                  </a:lnTo>
                  <a:lnTo>
                    <a:pt x="948" y="514"/>
                  </a:lnTo>
                  <a:lnTo>
                    <a:pt x="958" y="476"/>
                  </a:lnTo>
                  <a:lnTo>
                    <a:pt x="969" y="465"/>
                  </a:lnTo>
                  <a:lnTo>
                    <a:pt x="986" y="474"/>
                  </a:lnTo>
                  <a:lnTo>
                    <a:pt x="996" y="502"/>
                  </a:lnTo>
                  <a:lnTo>
                    <a:pt x="1015" y="523"/>
                  </a:lnTo>
                  <a:lnTo>
                    <a:pt x="1045" y="519"/>
                  </a:lnTo>
                  <a:lnTo>
                    <a:pt x="1057" y="462"/>
                  </a:lnTo>
                  <a:lnTo>
                    <a:pt x="1069" y="455"/>
                  </a:lnTo>
                  <a:lnTo>
                    <a:pt x="1074" y="365"/>
                  </a:lnTo>
                  <a:lnTo>
                    <a:pt x="1069" y="344"/>
                  </a:lnTo>
                  <a:lnTo>
                    <a:pt x="1057" y="343"/>
                  </a:lnTo>
                  <a:lnTo>
                    <a:pt x="1037" y="360"/>
                  </a:lnTo>
                  <a:lnTo>
                    <a:pt x="1021" y="343"/>
                  </a:lnTo>
                  <a:lnTo>
                    <a:pt x="1008" y="343"/>
                  </a:lnTo>
                  <a:lnTo>
                    <a:pt x="990" y="333"/>
                  </a:lnTo>
                  <a:lnTo>
                    <a:pt x="984" y="307"/>
                  </a:lnTo>
                  <a:lnTo>
                    <a:pt x="996" y="301"/>
                  </a:lnTo>
                  <a:lnTo>
                    <a:pt x="996" y="272"/>
                  </a:lnTo>
                  <a:lnTo>
                    <a:pt x="988" y="254"/>
                  </a:lnTo>
                  <a:lnTo>
                    <a:pt x="974" y="237"/>
                  </a:lnTo>
                  <a:lnTo>
                    <a:pt x="978" y="223"/>
                  </a:lnTo>
                  <a:lnTo>
                    <a:pt x="990" y="212"/>
                  </a:lnTo>
                  <a:lnTo>
                    <a:pt x="976" y="188"/>
                  </a:lnTo>
                  <a:lnTo>
                    <a:pt x="978" y="168"/>
                  </a:lnTo>
                  <a:lnTo>
                    <a:pt x="978" y="146"/>
                  </a:lnTo>
                  <a:lnTo>
                    <a:pt x="981" y="111"/>
                  </a:lnTo>
                  <a:lnTo>
                    <a:pt x="973" y="82"/>
                  </a:lnTo>
                  <a:lnTo>
                    <a:pt x="961" y="65"/>
                  </a:lnTo>
                  <a:lnTo>
                    <a:pt x="956" y="42"/>
                  </a:lnTo>
                  <a:lnTo>
                    <a:pt x="961" y="11"/>
                  </a:lnTo>
                  <a:lnTo>
                    <a:pt x="953" y="0"/>
                  </a:lnTo>
                  <a:lnTo>
                    <a:pt x="942" y="15"/>
                  </a:lnTo>
                  <a:lnTo>
                    <a:pt x="904" y="13"/>
                  </a:lnTo>
                  <a:lnTo>
                    <a:pt x="902" y="37"/>
                  </a:lnTo>
                  <a:lnTo>
                    <a:pt x="892" y="70"/>
                  </a:lnTo>
                  <a:lnTo>
                    <a:pt x="880" y="104"/>
                  </a:lnTo>
                  <a:lnTo>
                    <a:pt x="852" y="122"/>
                  </a:lnTo>
                  <a:lnTo>
                    <a:pt x="813" y="126"/>
                  </a:lnTo>
                  <a:lnTo>
                    <a:pt x="776" y="139"/>
                  </a:lnTo>
                  <a:lnTo>
                    <a:pt x="744" y="168"/>
                  </a:lnTo>
                  <a:lnTo>
                    <a:pt x="711" y="188"/>
                  </a:lnTo>
                  <a:lnTo>
                    <a:pt x="687" y="198"/>
                  </a:lnTo>
                  <a:lnTo>
                    <a:pt x="652" y="196"/>
                  </a:lnTo>
                  <a:lnTo>
                    <a:pt x="620" y="183"/>
                  </a:lnTo>
                  <a:lnTo>
                    <a:pt x="611" y="159"/>
                  </a:lnTo>
                  <a:lnTo>
                    <a:pt x="598" y="134"/>
                  </a:lnTo>
                  <a:lnTo>
                    <a:pt x="573" y="141"/>
                  </a:lnTo>
                  <a:lnTo>
                    <a:pt x="541" y="164"/>
                  </a:lnTo>
                  <a:lnTo>
                    <a:pt x="522" y="185"/>
                  </a:lnTo>
                  <a:lnTo>
                    <a:pt x="492" y="200"/>
                  </a:lnTo>
                  <a:lnTo>
                    <a:pt x="464" y="212"/>
                  </a:lnTo>
                  <a:lnTo>
                    <a:pt x="438" y="238"/>
                  </a:lnTo>
                  <a:lnTo>
                    <a:pt x="418" y="257"/>
                  </a:lnTo>
                  <a:lnTo>
                    <a:pt x="378" y="254"/>
                  </a:lnTo>
                  <a:lnTo>
                    <a:pt x="324" y="259"/>
                  </a:lnTo>
                  <a:lnTo>
                    <a:pt x="309" y="286"/>
                  </a:lnTo>
                  <a:lnTo>
                    <a:pt x="304" y="316"/>
                  </a:lnTo>
                  <a:lnTo>
                    <a:pt x="296" y="353"/>
                  </a:lnTo>
                  <a:lnTo>
                    <a:pt x="301" y="383"/>
                  </a:lnTo>
                  <a:lnTo>
                    <a:pt x="287" y="430"/>
                  </a:lnTo>
                  <a:lnTo>
                    <a:pt x="287" y="459"/>
                  </a:lnTo>
                  <a:lnTo>
                    <a:pt x="277" y="469"/>
                  </a:lnTo>
                  <a:lnTo>
                    <a:pt x="250" y="469"/>
                  </a:lnTo>
                  <a:lnTo>
                    <a:pt x="223" y="465"/>
                  </a:lnTo>
                  <a:lnTo>
                    <a:pt x="203" y="452"/>
                  </a:lnTo>
                  <a:lnTo>
                    <a:pt x="186" y="482"/>
                  </a:lnTo>
                  <a:lnTo>
                    <a:pt x="176" y="497"/>
                  </a:lnTo>
                  <a:lnTo>
                    <a:pt x="148" y="506"/>
                  </a:lnTo>
                  <a:lnTo>
                    <a:pt x="119" y="497"/>
                  </a:lnTo>
                  <a:lnTo>
                    <a:pt x="86" y="469"/>
                  </a:lnTo>
                  <a:lnTo>
                    <a:pt x="72" y="442"/>
                  </a:lnTo>
                  <a:lnTo>
                    <a:pt x="59" y="420"/>
                  </a:lnTo>
                  <a:lnTo>
                    <a:pt x="27" y="413"/>
                  </a:lnTo>
                  <a:lnTo>
                    <a:pt x="0" y="430"/>
                  </a:lnTo>
                  <a:lnTo>
                    <a:pt x="7" y="445"/>
                  </a:lnTo>
                  <a:lnTo>
                    <a:pt x="18" y="445"/>
                  </a:lnTo>
                  <a:lnTo>
                    <a:pt x="20" y="465"/>
                  </a:lnTo>
                  <a:lnTo>
                    <a:pt x="18" y="496"/>
                  </a:lnTo>
                  <a:lnTo>
                    <a:pt x="37" y="491"/>
                  </a:lnTo>
                  <a:lnTo>
                    <a:pt x="40" y="516"/>
                  </a:lnTo>
                  <a:lnTo>
                    <a:pt x="37" y="543"/>
                  </a:lnTo>
                  <a:lnTo>
                    <a:pt x="60" y="546"/>
                  </a:lnTo>
                  <a:lnTo>
                    <a:pt x="64" y="597"/>
                  </a:lnTo>
                  <a:lnTo>
                    <a:pt x="74" y="603"/>
                  </a:lnTo>
                  <a:lnTo>
                    <a:pt x="35" y="649"/>
                  </a:lnTo>
                  <a:lnTo>
                    <a:pt x="37" y="669"/>
                  </a:lnTo>
                  <a:lnTo>
                    <a:pt x="17" y="666"/>
                  </a:lnTo>
                  <a:lnTo>
                    <a:pt x="22" y="708"/>
                  </a:lnTo>
                  <a:lnTo>
                    <a:pt x="111" y="708"/>
                  </a:lnTo>
                  <a:lnTo>
                    <a:pt x="134" y="687"/>
                  </a:lnTo>
                  <a:lnTo>
                    <a:pt x="149" y="677"/>
                  </a:lnTo>
                  <a:lnTo>
                    <a:pt x="165" y="662"/>
                  </a:lnTo>
                  <a:lnTo>
                    <a:pt x="175" y="652"/>
                  </a:lnTo>
                  <a:lnTo>
                    <a:pt x="205" y="652"/>
                  </a:lnTo>
                  <a:lnTo>
                    <a:pt x="193" y="667"/>
                  </a:lnTo>
                  <a:lnTo>
                    <a:pt x="183" y="686"/>
                  </a:lnTo>
                  <a:lnTo>
                    <a:pt x="170" y="701"/>
                  </a:lnTo>
                  <a:lnTo>
                    <a:pt x="161" y="718"/>
                  </a:lnTo>
                  <a:lnTo>
                    <a:pt x="171" y="729"/>
                  </a:lnTo>
                  <a:lnTo>
                    <a:pt x="191" y="726"/>
                  </a:lnTo>
                  <a:lnTo>
                    <a:pt x="208" y="734"/>
                  </a:lnTo>
                  <a:lnTo>
                    <a:pt x="208" y="755"/>
                  </a:lnTo>
                  <a:lnTo>
                    <a:pt x="207" y="778"/>
                  </a:lnTo>
                  <a:lnTo>
                    <a:pt x="217" y="785"/>
                  </a:lnTo>
                  <a:lnTo>
                    <a:pt x="238" y="788"/>
                  </a:lnTo>
                  <a:lnTo>
                    <a:pt x="275" y="793"/>
                  </a:lnTo>
                  <a:lnTo>
                    <a:pt x="275" y="830"/>
                  </a:lnTo>
                  <a:lnTo>
                    <a:pt x="286" y="859"/>
                  </a:lnTo>
                  <a:lnTo>
                    <a:pt x="294" y="886"/>
                  </a:lnTo>
                  <a:lnTo>
                    <a:pt x="306" y="893"/>
                  </a:lnTo>
                  <a:lnTo>
                    <a:pt x="344" y="876"/>
                  </a:lnTo>
                  <a:lnTo>
                    <a:pt x="366" y="864"/>
                  </a:lnTo>
                  <a:lnTo>
                    <a:pt x="366" y="901"/>
                  </a:lnTo>
                  <a:lnTo>
                    <a:pt x="368" y="921"/>
                  </a:lnTo>
                  <a:lnTo>
                    <a:pt x="373" y="950"/>
                  </a:lnTo>
                  <a:lnTo>
                    <a:pt x="383" y="987"/>
                  </a:lnTo>
                  <a:lnTo>
                    <a:pt x="378" y="1000"/>
                  </a:lnTo>
                  <a:lnTo>
                    <a:pt x="383" y="1009"/>
                  </a:lnTo>
                  <a:lnTo>
                    <a:pt x="398" y="1005"/>
                  </a:lnTo>
                  <a:lnTo>
                    <a:pt x="413" y="1002"/>
                  </a:lnTo>
                  <a:lnTo>
                    <a:pt x="423" y="1012"/>
                  </a:lnTo>
                  <a:lnTo>
                    <a:pt x="432" y="1022"/>
                  </a:lnTo>
                  <a:lnTo>
                    <a:pt x="438" y="1025"/>
                  </a:lnTo>
                </a:path>
              </a:pathLst>
            </a:custGeom>
            <a:solidFill>
              <a:srgbClr val="ffff00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40"/>
            <p:cNvSpPr/>
            <p:nvPr/>
          </p:nvSpPr>
          <p:spPr>
            <a:xfrm>
              <a:off x="5987880" y="5669640"/>
              <a:ext cx="25380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1a17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Group 41" descr=""/>
          <p:cNvPicPr/>
          <p:nvPr/>
        </p:nvPicPr>
        <p:blipFill>
          <a:blip r:embed="rId12"/>
          <a:stretch/>
        </p:blipFill>
        <p:spPr>
          <a:xfrm>
            <a:off x="7345440" y="1298520"/>
            <a:ext cx="1396800" cy="1146240"/>
          </a:xfrm>
          <a:prstGeom prst="rect">
            <a:avLst/>
          </a:prstGeom>
          <a:ln w="0">
            <a:noFill/>
          </a:ln>
        </p:spPr>
      </p:pic>
      <p:pic>
        <p:nvPicPr>
          <p:cNvPr id="458" name="Group 44" descr=""/>
          <p:cNvPicPr/>
          <p:nvPr/>
        </p:nvPicPr>
        <p:blipFill>
          <a:blip r:embed="rId13"/>
          <a:stretch/>
        </p:blipFill>
        <p:spPr>
          <a:xfrm>
            <a:off x="7182000" y="414360"/>
            <a:ext cx="1425600" cy="1195200"/>
          </a:xfrm>
          <a:prstGeom prst="rect">
            <a:avLst/>
          </a:prstGeom>
          <a:ln w="0">
            <a:noFill/>
          </a:ln>
        </p:spPr>
      </p:pic>
      <p:sp>
        <p:nvSpPr>
          <p:cNvPr id="459" name="Freeform 47"/>
          <p:cNvSpPr/>
          <p:nvPr/>
        </p:nvSpPr>
        <p:spPr>
          <a:xfrm>
            <a:off x="4597560" y="887400"/>
            <a:ext cx="1147680" cy="108432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259" h="1216">
                <a:moveTo>
                  <a:pt x="105" y="225"/>
                </a:moveTo>
                <a:lnTo>
                  <a:pt x="404" y="306"/>
                </a:lnTo>
                <a:lnTo>
                  <a:pt x="461" y="138"/>
                </a:lnTo>
                <a:lnTo>
                  <a:pt x="684" y="200"/>
                </a:lnTo>
                <a:lnTo>
                  <a:pt x="741" y="0"/>
                </a:lnTo>
                <a:lnTo>
                  <a:pt x="1077" y="81"/>
                </a:lnTo>
                <a:lnTo>
                  <a:pt x="1022" y="281"/>
                </a:lnTo>
                <a:lnTo>
                  <a:pt x="1259" y="350"/>
                </a:lnTo>
                <a:lnTo>
                  <a:pt x="1197" y="588"/>
                </a:lnTo>
                <a:lnTo>
                  <a:pt x="1166" y="592"/>
                </a:lnTo>
                <a:lnTo>
                  <a:pt x="1166" y="637"/>
                </a:lnTo>
                <a:lnTo>
                  <a:pt x="1163" y="684"/>
                </a:lnTo>
                <a:lnTo>
                  <a:pt x="1128" y="688"/>
                </a:lnTo>
                <a:lnTo>
                  <a:pt x="1062" y="915"/>
                </a:lnTo>
                <a:lnTo>
                  <a:pt x="1025" y="903"/>
                </a:lnTo>
                <a:lnTo>
                  <a:pt x="1019" y="937"/>
                </a:lnTo>
                <a:lnTo>
                  <a:pt x="1015" y="1005"/>
                </a:lnTo>
                <a:lnTo>
                  <a:pt x="1025" y="1140"/>
                </a:lnTo>
                <a:lnTo>
                  <a:pt x="992" y="1216"/>
                </a:lnTo>
                <a:lnTo>
                  <a:pt x="773" y="1216"/>
                </a:lnTo>
                <a:lnTo>
                  <a:pt x="683" y="1216"/>
                </a:lnTo>
                <a:lnTo>
                  <a:pt x="646" y="1199"/>
                </a:lnTo>
                <a:lnTo>
                  <a:pt x="595" y="1194"/>
                </a:lnTo>
                <a:lnTo>
                  <a:pt x="555" y="1180"/>
                </a:lnTo>
                <a:lnTo>
                  <a:pt x="476" y="1165"/>
                </a:lnTo>
                <a:lnTo>
                  <a:pt x="417" y="1155"/>
                </a:lnTo>
                <a:lnTo>
                  <a:pt x="370" y="1133"/>
                </a:lnTo>
                <a:lnTo>
                  <a:pt x="325" y="1090"/>
                </a:lnTo>
                <a:lnTo>
                  <a:pt x="358" y="932"/>
                </a:lnTo>
                <a:lnTo>
                  <a:pt x="330" y="918"/>
                </a:lnTo>
                <a:lnTo>
                  <a:pt x="355" y="829"/>
                </a:lnTo>
                <a:lnTo>
                  <a:pt x="217" y="778"/>
                </a:lnTo>
                <a:lnTo>
                  <a:pt x="242" y="688"/>
                </a:lnTo>
                <a:lnTo>
                  <a:pt x="0" y="607"/>
                </a:lnTo>
                <a:lnTo>
                  <a:pt x="105" y="225"/>
                </a:lnTo>
                <a:close/>
              </a:path>
            </a:pathLst>
          </a:custGeom>
          <a:solidFill>
            <a:srgbClr val="92d05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8"/>
          <p:cNvSpPr/>
          <p:nvPr/>
        </p:nvSpPr>
        <p:spPr>
          <a:xfrm>
            <a:off x="5062680" y="1241280"/>
            <a:ext cx="126720" cy="2746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Group 49" descr=""/>
          <p:cNvPicPr/>
          <p:nvPr/>
        </p:nvPicPr>
        <p:blipFill>
          <a:blip r:embed="rId14"/>
          <a:stretch/>
        </p:blipFill>
        <p:spPr>
          <a:xfrm>
            <a:off x="6248520" y="2987640"/>
            <a:ext cx="914400" cy="596880"/>
          </a:xfrm>
          <a:prstGeom prst="rect">
            <a:avLst/>
          </a:prstGeom>
          <a:ln w="0">
            <a:noFill/>
          </a:ln>
        </p:spPr>
      </p:pic>
      <p:pic>
        <p:nvPicPr>
          <p:cNvPr id="462" name="Group 52" descr=""/>
          <p:cNvPicPr/>
          <p:nvPr/>
        </p:nvPicPr>
        <p:blipFill>
          <a:blip r:embed="rId15"/>
          <a:stretch/>
        </p:blipFill>
        <p:spPr>
          <a:xfrm>
            <a:off x="7570800" y="2335320"/>
            <a:ext cx="1060560" cy="1150920"/>
          </a:xfrm>
          <a:prstGeom prst="rect">
            <a:avLst/>
          </a:prstGeom>
          <a:ln w="0">
            <a:noFill/>
          </a:ln>
        </p:spPr>
      </p:pic>
      <p:pic>
        <p:nvPicPr>
          <p:cNvPr id="463" name="Group 55" descr=""/>
          <p:cNvPicPr/>
          <p:nvPr/>
        </p:nvPicPr>
        <p:blipFill>
          <a:blip r:embed="rId16"/>
          <a:stretch/>
        </p:blipFill>
        <p:spPr>
          <a:xfrm>
            <a:off x="5595840" y="3597120"/>
            <a:ext cx="987480" cy="962280"/>
          </a:xfrm>
          <a:prstGeom prst="rect">
            <a:avLst/>
          </a:prstGeom>
          <a:ln w="0">
            <a:noFill/>
          </a:ln>
        </p:spPr>
      </p:pic>
      <p:pic>
        <p:nvPicPr>
          <p:cNvPr id="464" name="Group 58" descr=""/>
          <p:cNvPicPr/>
          <p:nvPr/>
        </p:nvPicPr>
        <p:blipFill>
          <a:blip r:embed="rId17"/>
          <a:stretch/>
        </p:blipFill>
        <p:spPr>
          <a:xfrm>
            <a:off x="6297480" y="3340080"/>
            <a:ext cx="932040" cy="847800"/>
          </a:xfrm>
          <a:prstGeom prst="rect">
            <a:avLst/>
          </a:prstGeom>
          <a:ln w="0">
            <a:noFill/>
          </a:ln>
        </p:spPr>
      </p:pic>
      <p:pic>
        <p:nvPicPr>
          <p:cNvPr id="465" name="Group 61" descr=""/>
          <p:cNvPicPr/>
          <p:nvPr/>
        </p:nvPicPr>
        <p:blipFill>
          <a:blip r:embed="rId18"/>
          <a:stretch/>
        </p:blipFill>
        <p:spPr>
          <a:xfrm>
            <a:off x="7778880" y="2792520"/>
            <a:ext cx="907920" cy="877680"/>
          </a:xfrm>
          <a:prstGeom prst="rect">
            <a:avLst/>
          </a:prstGeom>
          <a:ln w="0">
            <a:noFill/>
          </a:ln>
        </p:spPr>
      </p:pic>
      <p:pic>
        <p:nvPicPr>
          <p:cNvPr id="466" name="Group 64" descr=""/>
          <p:cNvPicPr/>
          <p:nvPr/>
        </p:nvPicPr>
        <p:blipFill>
          <a:blip r:embed="rId19"/>
          <a:stretch/>
        </p:blipFill>
        <p:spPr>
          <a:xfrm>
            <a:off x="7327800" y="4041720"/>
            <a:ext cx="646200" cy="749520"/>
          </a:xfrm>
          <a:prstGeom prst="rect">
            <a:avLst/>
          </a:prstGeom>
          <a:ln w="0">
            <a:noFill/>
          </a:ln>
        </p:spPr>
      </p:pic>
      <p:pic>
        <p:nvPicPr>
          <p:cNvPr id="467" name="Group 67" descr=""/>
          <p:cNvPicPr/>
          <p:nvPr/>
        </p:nvPicPr>
        <p:blipFill>
          <a:blip r:embed="rId20"/>
          <a:stretch/>
        </p:blipFill>
        <p:spPr>
          <a:xfrm>
            <a:off x="6357960" y="5078520"/>
            <a:ext cx="622440" cy="541080"/>
          </a:xfrm>
          <a:prstGeom prst="rect">
            <a:avLst/>
          </a:prstGeom>
          <a:ln w="0">
            <a:noFill/>
          </a:ln>
        </p:spPr>
      </p:pic>
      <p:pic>
        <p:nvPicPr>
          <p:cNvPr id="468" name="Group 70" descr=""/>
          <p:cNvPicPr/>
          <p:nvPr/>
        </p:nvPicPr>
        <p:blipFill>
          <a:blip r:embed="rId21"/>
          <a:stretch/>
        </p:blipFill>
        <p:spPr>
          <a:xfrm>
            <a:off x="7589880" y="4675320"/>
            <a:ext cx="762120" cy="1171440"/>
          </a:xfrm>
          <a:prstGeom prst="rect">
            <a:avLst/>
          </a:prstGeom>
          <a:ln w="0">
            <a:noFill/>
          </a:ln>
        </p:spPr>
      </p:pic>
      <p:pic>
        <p:nvPicPr>
          <p:cNvPr id="469" name="Group 73" descr=""/>
          <p:cNvPicPr/>
          <p:nvPr/>
        </p:nvPicPr>
        <p:blipFill>
          <a:blip r:embed="rId22"/>
          <a:stretch/>
        </p:blipFill>
        <p:spPr>
          <a:xfrm>
            <a:off x="6053040" y="5516640"/>
            <a:ext cx="1036800" cy="950760"/>
          </a:xfrm>
          <a:prstGeom prst="rect">
            <a:avLst/>
          </a:prstGeom>
          <a:ln w="0">
            <a:noFill/>
          </a:ln>
        </p:spPr>
      </p:pic>
      <p:pic>
        <p:nvPicPr>
          <p:cNvPr id="470" name="Group 76" descr=""/>
          <p:cNvPicPr/>
          <p:nvPr/>
        </p:nvPicPr>
        <p:blipFill>
          <a:blip r:embed="rId23"/>
          <a:stretch/>
        </p:blipFill>
        <p:spPr>
          <a:xfrm>
            <a:off x="6980400" y="5602320"/>
            <a:ext cx="663480" cy="474480"/>
          </a:xfrm>
          <a:prstGeom prst="rect">
            <a:avLst/>
          </a:prstGeom>
          <a:ln w="0">
            <a:noFill/>
          </a:ln>
        </p:spPr>
      </p:pic>
      <p:pic>
        <p:nvPicPr>
          <p:cNvPr id="471" name="Group 79" descr=""/>
          <p:cNvPicPr/>
          <p:nvPr/>
        </p:nvPicPr>
        <p:blipFill>
          <a:blip r:embed="rId24"/>
          <a:stretch/>
        </p:blipFill>
        <p:spPr>
          <a:xfrm>
            <a:off x="6797520" y="5784840"/>
            <a:ext cx="1103400" cy="920880"/>
          </a:xfrm>
          <a:prstGeom prst="rect">
            <a:avLst/>
          </a:prstGeom>
          <a:ln w="0">
            <a:noFill/>
          </a:ln>
        </p:spPr>
      </p:pic>
      <p:pic>
        <p:nvPicPr>
          <p:cNvPr id="472" name="Group 82" descr=""/>
          <p:cNvPicPr/>
          <p:nvPr/>
        </p:nvPicPr>
        <p:blipFill>
          <a:blip r:embed="rId25"/>
          <a:stretch/>
        </p:blipFill>
        <p:spPr>
          <a:xfrm>
            <a:off x="5803920" y="4419720"/>
            <a:ext cx="914400" cy="811080"/>
          </a:xfrm>
          <a:prstGeom prst="rect">
            <a:avLst/>
          </a:prstGeom>
          <a:ln w="0">
            <a:noFill/>
          </a:ln>
        </p:spPr>
      </p:pic>
      <p:pic>
        <p:nvPicPr>
          <p:cNvPr id="473" name="Group 85" descr=""/>
          <p:cNvPicPr/>
          <p:nvPr/>
        </p:nvPicPr>
        <p:blipFill>
          <a:blip r:embed="rId26"/>
          <a:stretch/>
        </p:blipFill>
        <p:spPr>
          <a:xfrm>
            <a:off x="6381720" y="4035600"/>
            <a:ext cx="847800" cy="707760"/>
          </a:xfrm>
          <a:prstGeom prst="rect">
            <a:avLst/>
          </a:prstGeom>
          <a:ln w="0">
            <a:noFill/>
          </a:ln>
        </p:spPr>
      </p:pic>
      <p:pic>
        <p:nvPicPr>
          <p:cNvPr id="474" name="Group 88" descr=""/>
          <p:cNvPicPr/>
          <p:nvPr/>
        </p:nvPicPr>
        <p:blipFill>
          <a:blip r:embed="rId27"/>
          <a:stretch/>
        </p:blipFill>
        <p:spPr>
          <a:xfrm>
            <a:off x="5608800" y="2139840"/>
            <a:ext cx="699840" cy="627120"/>
          </a:xfrm>
          <a:prstGeom prst="rect">
            <a:avLst/>
          </a:prstGeom>
          <a:ln w="0">
            <a:noFill/>
          </a:ln>
        </p:spPr>
      </p:pic>
      <p:pic>
        <p:nvPicPr>
          <p:cNvPr id="475" name="Group 91" descr=""/>
          <p:cNvPicPr/>
          <p:nvPr/>
        </p:nvPicPr>
        <p:blipFill>
          <a:blip r:embed="rId28"/>
          <a:stretch/>
        </p:blipFill>
        <p:spPr>
          <a:xfrm>
            <a:off x="6072120" y="1901880"/>
            <a:ext cx="743040" cy="938160"/>
          </a:xfrm>
          <a:prstGeom prst="rect">
            <a:avLst/>
          </a:prstGeom>
          <a:ln w="0">
            <a:noFill/>
          </a:ln>
        </p:spPr>
      </p:pic>
      <p:sp>
        <p:nvSpPr>
          <p:cNvPr id="476" name="Freeform 94"/>
          <p:cNvSpPr/>
          <p:nvPr/>
        </p:nvSpPr>
        <p:spPr>
          <a:xfrm>
            <a:off x="8067600" y="973080"/>
            <a:ext cx="976320" cy="1306440"/>
          </a:xfrm>
          <a:custGeom>
            <a:avLst/>
            <a:gdLst>
              <a:gd name="textAreaLeft" fmla="*/ 0 w 976320"/>
              <a:gd name="textAreaRight" fmla="*/ 976680 w 976320"/>
              <a:gd name="textAreaTop" fmla="*/ 0 h 1306440"/>
              <a:gd name="textAreaBottom" fmla="*/ 1306800 h 1306440"/>
            </a:gdLst>
            <a:ahLst/>
            <a:rect l="textAreaLeft" t="textAreaTop" r="textAreaRight" b="textAreaBottom"/>
            <a:pathLst>
              <a:path w="1077" h="1457">
                <a:moveTo>
                  <a:pt x="46" y="685"/>
                </a:moveTo>
                <a:lnTo>
                  <a:pt x="47" y="653"/>
                </a:lnTo>
                <a:lnTo>
                  <a:pt x="67" y="644"/>
                </a:lnTo>
                <a:lnTo>
                  <a:pt x="101" y="454"/>
                </a:lnTo>
                <a:lnTo>
                  <a:pt x="286" y="523"/>
                </a:lnTo>
                <a:lnTo>
                  <a:pt x="301" y="500"/>
                </a:lnTo>
                <a:lnTo>
                  <a:pt x="333" y="493"/>
                </a:lnTo>
                <a:lnTo>
                  <a:pt x="361" y="480"/>
                </a:lnTo>
                <a:lnTo>
                  <a:pt x="368" y="446"/>
                </a:lnTo>
                <a:lnTo>
                  <a:pt x="378" y="402"/>
                </a:lnTo>
                <a:lnTo>
                  <a:pt x="387" y="380"/>
                </a:lnTo>
                <a:lnTo>
                  <a:pt x="434" y="379"/>
                </a:lnTo>
                <a:lnTo>
                  <a:pt x="447" y="310"/>
                </a:lnTo>
                <a:lnTo>
                  <a:pt x="489" y="313"/>
                </a:lnTo>
                <a:lnTo>
                  <a:pt x="488" y="338"/>
                </a:lnTo>
                <a:lnTo>
                  <a:pt x="501" y="320"/>
                </a:lnTo>
                <a:lnTo>
                  <a:pt x="511" y="306"/>
                </a:lnTo>
                <a:lnTo>
                  <a:pt x="531" y="288"/>
                </a:lnTo>
                <a:lnTo>
                  <a:pt x="536" y="244"/>
                </a:lnTo>
                <a:lnTo>
                  <a:pt x="543" y="224"/>
                </a:lnTo>
                <a:lnTo>
                  <a:pt x="563" y="226"/>
                </a:lnTo>
                <a:lnTo>
                  <a:pt x="568" y="185"/>
                </a:lnTo>
                <a:lnTo>
                  <a:pt x="572" y="164"/>
                </a:lnTo>
                <a:lnTo>
                  <a:pt x="583" y="135"/>
                </a:lnTo>
                <a:lnTo>
                  <a:pt x="588" y="110"/>
                </a:lnTo>
                <a:lnTo>
                  <a:pt x="563" y="101"/>
                </a:lnTo>
                <a:lnTo>
                  <a:pt x="558" y="76"/>
                </a:lnTo>
                <a:lnTo>
                  <a:pt x="553" y="42"/>
                </a:lnTo>
                <a:lnTo>
                  <a:pt x="556" y="17"/>
                </a:lnTo>
                <a:lnTo>
                  <a:pt x="585" y="27"/>
                </a:lnTo>
                <a:lnTo>
                  <a:pt x="608" y="17"/>
                </a:lnTo>
                <a:lnTo>
                  <a:pt x="632" y="31"/>
                </a:lnTo>
                <a:lnTo>
                  <a:pt x="672" y="41"/>
                </a:lnTo>
                <a:lnTo>
                  <a:pt x="698" y="42"/>
                </a:lnTo>
                <a:lnTo>
                  <a:pt x="723" y="48"/>
                </a:lnTo>
                <a:lnTo>
                  <a:pt x="719" y="76"/>
                </a:lnTo>
                <a:lnTo>
                  <a:pt x="736" y="86"/>
                </a:lnTo>
                <a:lnTo>
                  <a:pt x="738" y="115"/>
                </a:lnTo>
                <a:lnTo>
                  <a:pt x="731" y="130"/>
                </a:lnTo>
                <a:lnTo>
                  <a:pt x="753" y="135"/>
                </a:lnTo>
                <a:lnTo>
                  <a:pt x="753" y="162"/>
                </a:lnTo>
                <a:lnTo>
                  <a:pt x="773" y="158"/>
                </a:lnTo>
                <a:lnTo>
                  <a:pt x="805" y="165"/>
                </a:lnTo>
                <a:lnTo>
                  <a:pt x="840" y="172"/>
                </a:lnTo>
                <a:lnTo>
                  <a:pt x="854" y="172"/>
                </a:lnTo>
                <a:lnTo>
                  <a:pt x="861" y="142"/>
                </a:lnTo>
                <a:lnTo>
                  <a:pt x="861" y="113"/>
                </a:lnTo>
                <a:lnTo>
                  <a:pt x="867" y="88"/>
                </a:lnTo>
                <a:lnTo>
                  <a:pt x="886" y="81"/>
                </a:lnTo>
                <a:lnTo>
                  <a:pt x="919" y="71"/>
                </a:lnTo>
                <a:lnTo>
                  <a:pt x="946" y="54"/>
                </a:lnTo>
                <a:lnTo>
                  <a:pt x="946" y="4"/>
                </a:lnTo>
                <a:lnTo>
                  <a:pt x="988" y="0"/>
                </a:lnTo>
                <a:lnTo>
                  <a:pt x="1000" y="34"/>
                </a:lnTo>
                <a:lnTo>
                  <a:pt x="1000" y="59"/>
                </a:lnTo>
                <a:lnTo>
                  <a:pt x="990" y="79"/>
                </a:lnTo>
                <a:lnTo>
                  <a:pt x="1008" y="83"/>
                </a:lnTo>
                <a:lnTo>
                  <a:pt x="1008" y="106"/>
                </a:lnTo>
                <a:lnTo>
                  <a:pt x="1032" y="103"/>
                </a:lnTo>
                <a:lnTo>
                  <a:pt x="1055" y="103"/>
                </a:lnTo>
                <a:lnTo>
                  <a:pt x="1071" y="113"/>
                </a:lnTo>
                <a:lnTo>
                  <a:pt x="1064" y="133"/>
                </a:lnTo>
                <a:lnTo>
                  <a:pt x="1072" y="158"/>
                </a:lnTo>
                <a:lnTo>
                  <a:pt x="1067" y="179"/>
                </a:lnTo>
                <a:lnTo>
                  <a:pt x="1062" y="206"/>
                </a:lnTo>
                <a:lnTo>
                  <a:pt x="1071" y="224"/>
                </a:lnTo>
                <a:lnTo>
                  <a:pt x="1077" y="243"/>
                </a:lnTo>
                <a:lnTo>
                  <a:pt x="1076" y="271"/>
                </a:lnTo>
                <a:lnTo>
                  <a:pt x="1059" y="310"/>
                </a:lnTo>
                <a:lnTo>
                  <a:pt x="1057" y="333"/>
                </a:lnTo>
                <a:lnTo>
                  <a:pt x="1044" y="360"/>
                </a:lnTo>
                <a:lnTo>
                  <a:pt x="1052" y="380"/>
                </a:lnTo>
                <a:lnTo>
                  <a:pt x="1049" y="406"/>
                </a:lnTo>
                <a:lnTo>
                  <a:pt x="1042" y="434"/>
                </a:lnTo>
                <a:lnTo>
                  <a:pt x="1045" y="473"/>
                </a:lnTo>
                <a:lnTo>
                  <a:pt x="1052" y="495"/>
                </a:lnTo>
                <a:lnTo>
                  <a:pt x="1039" y="528"/>
                </a:lnTo>
                <a:lnTo>
                  <a:pt x="1025" y="542"/>
                </a:lnTo>
                <a:lnTo>
                  <a:pt x="1017" y="574"/>
                </a:lnTo>
                <a:lnTo>
                  <a:pt x="1012" y="624"/>
                </a:lnTo>
                <a:lnTo>
                  <a:pt x="1005" y="665"/>
                </a:lnTo>
                <a:lnTo>
                  <a:pt x="988" y="671"/>
                </a:lnTo>
                <a:lnTo>
                  <a:pt x="968" y="695"/>
                </a:lnTo>
                <a:lnTo>
                  <a:pt x="948" y="718"/>
                </a:lnTo>
                <a:lnTo>
                  <a:pt x="940" y="732"/>
                </a:lnTo>
                <a:lnTo>
                  <a:pt x="923" y="734"/>
                </a:lnTo>
                <a:lnTo>
                  <a:pt x="919" y="757"/>
                </a:lnTo>
                <a:lnTo>
                  <a:pt x="921" y="794"/>
                </a:lnTo>
                <a:lnTo>
                  <a:pt x="916" y="831"/>
                </a:lnTo>
                <a:lnTo>
                  <a:pt x="909" y="856"/>
                </a:lnTo>
                <a:lnTo>
                  <a:pt x="906" y="873"/>
                </a:lnTo>
                <a:lnTo>
                  <a:pt x="896" y="890"/>
                </a:lnTo>
                <a:lnTo>
                  <a:pt x="881" y="902"/>
                </a:lnTo>
                <a:lnTo>
                  <a:pt x="887" y="920"/>
                </a:lnTo>
                <a:lnTo>
                  <a:pt x="904" y="927"/>
                </a:lnTo>
                <a:lnTo>
                  <a:pt x="909" y="939"/>
                </a:lnTo>
                <a:lnTo>
                  <a:pt x="889" y="969"/>
                </a:lnTo>
                <a:lnTo>
                  <a:pt x="894" y="993"/>
                </a:lnTo>
                <a:lnTo>
                  <a:pt x="892" y="1018"/>
                </a:lnTo>
                <a:lnTo>
                  <a:pt x="886" y="1038"/>
                </a:lnTo>
                <a:lnTo>
                  <a:pt x="889" y="1058"/>
                </a:lnTo>
                <a:lnTo>
                  <a:pt x="877" y="1092"/>
                </a:lnTo>
                <a:lnTo>
                  <a:pt x="866" y="1117"/>
                </a:lnTo>
                <a:lnTo>
                  <a:pt x="861" y="1144"/>
                </a:lnTo>
                <a:lnTo>
                  <a:pt x="847" y="1171"/>
                </a:lnTo>
                <a:lnTo>
                  <a:pt x="845" y="1194"/>
                </a:lnTo>
                <a:lnTo>
                  <a:pt x="845" y="1213"/>
                </a:lnTo>
                <a:lnTo>
                  <a:pt x="835" y="1260"/>
                </a:lnTo>
                <a:lnTo>
                  <a:pt x="824" y="1294"/>
                </a:lnTo>
                <a:lnTo>
                  <a:pt x="813" y="1325"/>
                </a:lnTo>
                <a:lnTo>
                  <a:pt x="807" y="1346"/>
                </a:lnTo>
                <a:lnTo>
                  <a:pt x="780" y="1374"/>
                </a:lnTo>
                <a:lnTo>
                  <a:pt x="795" y="1391"/>
                </a:lnTo>
                <a:lnTo>
                  <a:pt x="788" y="1404"/>
                </a:lnTo>
                <a:lnTo>
                  <a:pt x="793" y="1426"/>
                </a:lnTo>
                <a:lnTo>
                  <a:pt x="797" y="1457"/>
                </a:lnTo>
                <a:lnTo>
                  <a:pt x="703" y="1436"/>
                </a:lnTo>
                <a:lnTo>
                  <a:pt x="706" y="1389"/>
                </a:lnTo>
                <a:lnTo>
                  <a:pt x="711" y="1366"/>
                </a:lnTo>
                <a:lnTo>
                  <a:pt x="679" y="1357"/>
                </a:lnTo>
                <a:lnTo>
                  <a:pt x="696" y="1258"/>
                </a:lnTo>
                <a:lnTo>
                  <a:pt x="642" y="1241"/>
                </a:lnTo>
                <a:lnTo>
                  <a:pt x="659" y="1157"/>
                </a:lnTo>
                <a:lnTo>
                  <a:pt x="625" y="1140"/>
                </a:lnTo>
                <a:lnTo>
                  <a:pt x="645" y="1051"/>
                </a:lnTo>
                <a:lnTo>
                  <a:pt x="345" y="976"/>
                </a:lnTo>
                <a:lnTo>
                  <a:pt x="338" y="1024"/>
                </a:lnTo>
                <a:lnTo>
                  <a:pt x="267" y="1016"/>
                </a:lnTo>
                <a:lnTo>
                  <a:pt x="259" y="1030"/>
                </a:lnTo>
                <a:lnTo>
                  <a:pt x="229" y="1024"/>
                </a:lnTo>
                <a:lnTo>
                  <a:pt x="230" y="1046"/>
                </a:lnTo>
                <a:lnTo>
                  <a:pt x="131" y="1024"/>
                </a:lnTo>
                <a:lnTo>
                  <a:pt x="130" y="998"/>
                </a:lnTo>
                <a:lnTo>
                  <a:pt x="79" y="962"/>
                </a:lnTo>
                <a:lnTo>
                  <a:pt x="49" y="934"/>
                </a:lnTo>
                <a:lnTo>
                  <a:pt x="29" y="917"/>
                </a:lnTo>
                <a:lnTo>
                  <a:pt x="34" y="893"/>
                </a:lnTo>
                <a:lnTo>
                  <a:pt x="0" y="895"/>
                </a:lnTo>
                <a:lnTo>
                  <a:pt x="46" y="685"/>
                </a:lnTo>
                <a:close/>
              </a:path>
            </a:pathLst>
          </a:custGeom>
          <a:solidFill>
            <a:srgbClr val="00b0f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5"/>
          <p:cNvSpPr/>
          <p:nvPr/>
        </p:nvSpPr>
        <p:spPr>
          <a:xfrm>
            <a:off x="8569440" y="1353960"/>
            <a:ext cx="127080" cy="2746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13"/>
          <p:cNvSpPr/>
          <p:nvPr/>
        </p:nvSpPr>
        <p:spPr>
          <a:xfrm>
            <a:off x="5934240" y="2776680"/>
            <a:ext cx="9144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d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 Кудымк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5969160" y="1351080"/>
            <a:ext cx="127080" cy="2746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6792840" y="1351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5"/>
          <p:cNvSpPr/>
          <p:nvPr/>
        </p:nvSpPr>
        <p:spPr>
          <a:xfrm>
            <a:off x="5537160" y="2770200"/>
            <a:ext cx="253800" cy="2746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8"/>
          <p:cNvSpPr/>
          <p:nvPr/>
        </p:nvSpPr>
        <p:spPr>
          <a:xfrm>
            <a:off x="5062680" y="1241280"/>
            <a:ext cx="126720" cy="2746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95"/>
          <p:cNvSpPr/>
          <p:nvPr/>
        </p:nvSpPr>
        <p:spPr>
          <a:xfrm>
            <a:off x="8569440" y="1353960"/>
            <a:ext cx="127080" cy="2746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55"/>
          <p:cNvSpPr/>
          <p:nvPr/>
        </p:nvSpPr>
        <p:spPr>
          <a:xfrm>
            <a:off x="7451640" y="2205000"/>
            <a:ext cx="1177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г. Березни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62"/>
          <p:cNvSpPr/>
          <p:nvPr/>
        </p:nvSpPr>
        <p:spPr>
          <a:xfrm>
            <a:off x="5934240" y="2776680"/>
            <a:ext cx="9144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d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 Кудымк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26"/>
          <p:cNvSpPr/>
          <p:nvPr/>
        </p:nvSpPr>
        <p:spPr>
          <a:xfrm>
            <a:off x="5969160" y="1351080"/>
            <a:ext cx="127080" cy="2746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27"/>
          <p:cNvSpPr/>
          <p:nvPr/>
        </p:nvSpPr>
        <p:spPr>
          <a:xfrm>
            <a:off x="6792840" y="1351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28"/>
          <p:cNvSpPr/>
          <p:nvPr/>
        </p:nvSpPr>
        <p:spPr>
          <a:xfrm>
            <a:off x="5537160" y="2770200"/>
            <a:ext cx="253800" cy="2746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29"/>
          <p:cNvSpPr/>
          <p:nvPr/>
        </p:nvSpPr>
        <p:spPr>
          <a:xfrm>
            <a:off x="5062680" y="1241280"/>
            <a:ext cx="126720" cy="27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30"/>
          <p:cNvSpPr/>
          <p:nvPr/>
        </p:nvSpPr>
        <p:spPr>
          <a:xfrm>
            <a:off x="8569440" y="1353960"/>
            <a:ext cx="127080" cy="2746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32"/>
          <p:cNvSpPr/>
          <p:nvPr/>
        </p:nvSpPr>
        <p:spPr>
          <a:xfrm>
            <a:off x="7035840" y="4737240"/>
            <a:ext cx="7920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г. Перм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38"/>
          <p:cNvSpPr/>
          <p:nvPr/>
        </p:nvSpPr>
        <p:spPr>
          <a:xfrm>
            <a:off x="5934240" y="2776680"/>
            <a:ext cx="9144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d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г. Кудымка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12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061A-D8D1-461F-929B-B485D978A9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6080" y="176040"/>
            <a:ext cx="7667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100"/>
                </a:solidFill>
                <a:latin typeface="Times New Roman"/>
                <a:ea typeface="Times New Roman"/>
              </a:rPr>
              <a:t>Размещение федеральных государственных лесных инспекторов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101"/>
          <p:cNvGraphicFramePr/>
          <p:nvPr/>
        </p:nvGraphicFramePr>
        <p:xfrm>
          <a:off x="311040" y="981000"/>
          <a:ext cx="3254400" cy="547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6" name="Object 1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981000"/>
                    <a:ext cx="32544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Object 166"/>
          <p:cNvGraphicFramePr/>
          <p:nvPr/>
        </p:nvGraphicFramePr>
        <p:xfrm>
          <a:off x="7956720" y="1197000"/>
          <a:ext cx="1103040" cy="5184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8" name="Object 1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6720" y="1197000"/>
                    <a:ext cx="11030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Freeform 2"/>
          <p:cNvSpPr/>
          <p:nvPr/>
        </p:nvSpPr>
        <p:spPr>
          <a:xfrm>
            <a:off x="5508720" y="765000"/>
            <a:ext cx="1108080" cy="140040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1400400"/>
              <a:gd name="textAreaBottom" fmla="*/ 1400760 h 1400400"/>
            </a:gdLst>
            <a:ahLst/>
            <a:rect l="textAreaLeft" t="textAreaTop" r="textAreaRight" b="textAreaBottom"/>
            <a:pathLst>
              <a:path w="1216" h="1559">
                <a:moveTo>
                  <a:pt x="0" y="469"/>
                </a:moveTo>
                <a:lnTo>
                  <a:pt x="42" y="298"/>
                </a:lnTo>
                <a:lnTo>
                  <a:pt x="137" y="315"/>
                </a:lnTo>
                <a:lnTo>
                  <a:pt x="190" y="123"/>
                </a:lnTo>
                <a:lnTo>
                  <a:pt x="475" y="194"/>
                </a:lnTo>
                <a:lnTo>
                  <a:pt x="531" y="0"/>
                </a:lnTo>
                <a:lnTo>
                  <a:pt x="905" y="96"/>
                </a:lnTo>
                <a:lnTo>
                  <a:pt x="870" y="126"/>
                </a:lnTo>
                <a:lnTo>
                  <a:pt x="815" y="247"/>
                </a:lnTo>
                <a:lnTo>
                  <a:pt x="865" y="262"/>
                </a:lnTo>
                <a:lnTo>
                  <a:pt x="855" y="400"/>
                </a:lnTo>
                <a:lnTo>
                  <a:pt x="813" y="407"/>
                </a:lnTo>
                <a:lnTo>
                  <a:pt x="793" y="585"/>
                </a:lnTo>
                <a:lnTo>
                  <a:pt x="865" y="602"/>
                </a:lnTo>
                <a:lnTo>
                  <a:pt x="863" y="649"/>
                </a:lnTo>
                <a:lnTo>
                  <a:pt x="905" y="659"/>
                </a:lnTo>
                <a:lnTo>
                  <a:pt x="902" y="695"/>
                </a:lnTo>
                <a:lnTo>
                  <a:pt x="993" y="720"/>
                </a:lnTo>
                <a:lnTo>
                  <a:pt x="993" y="784"/>
                </a:lnTo>
                <a:lnTo>
                  <a:pt x="994" y="824"/>
                </a:lnTo>
                <a:lnTo>
                  <a:pt x="984" y="864"/>
                </a:lnTo>
                <a:lnTo>
                  <a:pt x="984" y="876"/>
                </a:lnTo>
                <a:lnTo>
                  <a:pt x="1003" y="906"/>
                </a:lnTo>
                <a:lnTo>
                  <a:pt x="993" y="959"/>
                </a:lnTo>
                <a:lnTo>
                  <a:pt x="1015" y="964"/>
                </a:lnTo>
                <a:lnTo>
                  <a:pt x="1046" y="927"/>
                </a:lnTo>
                <a:lnTo>
                  <a:pt x="1092" y="932"/>
                </a:lnTo>
                <a:lnTo>
                  <a:pt x="1112" y="932"/>
                </a:lnTo>
                <a:lnTo>
                  <a:pt x="1157" y="943"/>
                </a:lnTo>
                <a:lnTo>
                  <a:pt x="1169" y="972"/>
                </a:lnTo>
                <a:lnTo>
                  <a:pt x="1191" y="987"/>
                </a:lnTo>
                <a:lnTo>
                  <a:pt x="1216" y="1012"/>
                </a:lnTo>
                <a:lnTo>
                  <a:pt x="1184" y="1091"/>
                </a:lnTo>
                <a:lnTo>
                  <a:pt x="1132" y="1090"/>
                </a:lnTo>
                <a:lnTo>
                  <a:pt x="1090" y="1117"/>
                </a:lnTo>
                <a:lnTo>
                  <a:pt x="1051" y="1172"/>
                </a:lnTo>
                <a:lnTo>
                  <a:pt x="1065" y="1199"/>
                </a:lnTo>
                <a:lnTo>
                  <a:pt x="1013" y="1209"/>
                </a:lnTo>
                <a:lnTo>
                  <a:pt x="949" y="1214"/>
                </a:lnTo>
                <a:lnTo>
                  <a:pt x="947" y="1271"/>
                </a:lnTo>
                <a:lnTo>
                  <a:pt x="989" y="1317"/>
                </a:lnTo>
                <a:lnTo>
                  <a:pt x="964" y="1389"/>
                </a:lnTo>
                <a:lnTo>
                  <a:pt x="936" y="1384"/>
                </a:lnTo>
                <a:lnTo>
                  <a:pt x="915" y="1409"/>
                </a:lnTo>
                <a:lnTo>
                  <a:pt x="907" y="1448"/>
                </a:lnTo>
                <a:lnTo>
                  <a:pt x="897" y="1498"/>
                </a:lnTo>
                <a:lnTo>
                  <a:pt x="897" y="1544"/>
                </a:lnTo>
                <a:lnTo>
                  <a:pt x="865" y="1559"/>
                </a:lnTo>
                <a:lnTo>
                  <a:pt x="838" y="1556"/>
                </a:lnTo>
                <a:lnTo>
                  <a:pt x="804" y="1529"/>
                </a:lnTo>
                <a:lnTo>
                  <a:pt x="783" y="1508"/>
                </a:lnTo>
                <a:lnTo>
                  <a:pt x="781" y="1482"/>
                </a:lnTo>
                <a:lnTo>
                  <a:pt x="722" y="1451"/>
                </a:lnTo>
                <a:lnTo>
                  <a:pt x="700" y="1483"/>
                </a:lnTo>
                <a:lnTo>
                  <a:pt x="670" y="1458"/>
                </a:lnTo>
                <a:lnTo>
                  <a:pt x="625" y="1446"/>
                </a:lnTo>
                <a:lnTo>
                  <a:pt x="601" y="1443"/>
                </a:lnTo>
                <a:lnTo>
                  <a:pt x="596" y="1482"/>
                </a:lnTo>
                <a:lnTo>
                  <a:pt x="494" y="1458"/>
                </a:lnTo>
                <a:lnTo>
                  <a:pt x="479" y="1519"/>
                </a:lnTo>
                <a:lnTo>
                  <a:pt x="247" y="1473"/>
                </a:lnTo>
                <a:lnTo>
                  <a:pt x="216" y="1302"/>
                </a:lnTo>
                <a:lnTo>
                  <a:pt x="129" y="1327"/>
                </a:lnTo>
                <a:lnTo>
                  <a:pt x="102" y="1329"/>
                </a:lnTo>
                <a:lnTo>
                  <a:pt x="144" y="1112"/>
                </a:lnTo>
                <a:lnTo>
                  <a:pt x="5" y="1066"/>
                </a:lnTo>
                <a:lnTo>
                  <a:pt x="45" y="890"/>
                </a:lnTo>
                <a:lnTo>
                  <a:pt x="57" y="762"/>
                </a:lnTo>
                <a:lnTo>
                  <a:pt x="74" y="695"/>
                </a:lnTo>
                <a:lnTo>
                  <a:pt x="69" y="619"/>
                </a:lnTo>
                <a:lnTo>
                  <a:pt x="104" y="560"/>
                </a:lnTo>
                <a:lnTo>
                  <a:pt x="112" y="500"/>
                </a:lnTo>
                <a:lnTo>
                  <a:pt x="0" y="469"/>
                </a:lnTo>
                <a:close/>
              </a:path>
            </a:pathLst>
          </a:custGeom>
          <a:solidFill>
            <a:srgbClr val="00b0f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"/>
          <p:cNvSpPr/>
          <p:nvPr/>
        </p:nvSpPr>
        <p:spPr>
          <a:xfrm>
            <a:off x="4565520" y="1054080"/>
            <a:ext cx="1084320" cy="117648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w="1193" h="1309">
                <a:moveTo>
                  <a:pt x="1" y="953"/>
                </a:moveTo>
                <a:lnTo>
                  <a:pt x="1" y="817"/>
                </a:lnTo>
                <a:lnTo>
                  <a:pt x="0" y="761"/>
                </a:lnTo>
                <a:lnTo>
                  <a:pt x="5" y="721"/>
                </a:lnTo>
                <a:lnTo>
                  <a:pt x="50" y="731"/>
                </a:lnTo>
                <a:lnTo>
                  <a:pt x="114" y="507"/>
                </a:lnTo>
                <a:lnTo>
                  <a:pt x="147" y="504"/>
                </a:lnTo>
                <a:lnTo>
                  <a:pt x="144" y="452"/>
                </a:lnTo>
                <a:lnTo>
                  <a:pt x="156" y="422"/>
                </a:lnTo>
                <a:lnTo>
                  <a:pt x="184" y="406"/>
                </a:lnTo>
                <a:lnTo>
                  <a:pt x="247" y="168"/>
                </a:lnTo>
                <a:lnTo>
                  <a:pt x="304" y="183"/>
                </a:lnTo>
                <a:lnTo>
                  <a:pt x="346" y="0"/>
                </a:lnTo>
                <a:lnTo>
                  <a:pt x="1041" y="179"/>
                </a:lnTo>
                <a:lnTo>
                  <a:pt x="1051" y="159"/>
                </a:lnTo>
                <a:lnTo>
                  <a:pt x="1157" y="190"/>
                </a:lnTo>
                <a:lnTo>
                  <a:pt x="1157" y="218"/>
                </a:lnTo>
                <a:lnTo>
                  <a:pt x="1145" y="255"/>
                </a:lnTo>
                <a:lnTo>
                  <a:pt x="1120" y="302"/>
                </a:lnTo>
                <a:lnTo>
                  <a:pt x="1114" y="393"/>
                </a:lnTo>
                <a:lnTo>
                  <a:pt x="1100" y="467"/>
                </a:lnTo>
                <a:lnTo>
                  <a:pt x="1090" y="576"/>
                </a:lnTo>
                <a:lnTo>
                  <a:pt x="1085" y="642"/>
                </a:lnTo>
                <a:lnTo>
                  <a:pt x="1066" y="687"/>
                </a:lnTo>
                <a:lnTo>
                  <a:pt x="1058" y="733"/>
                </a:lnTo>
                <a:lnTo>
                  <a:pt x="1053" y="765"/>
                </a:lnTo>
                <a:lnTo>
                  <a:pt x="1193" y="805"/>
                </a:lnTo>
                <a:lnTo>
                  <a:pt x="1142" y="1019"/>
                </a:lnTo>
                <a:lnTo>
                  <a:pt x="1100" y="1052"/>
                </a:lnTo>
                <a:lnTo>
                  <a:pt x="1038" y="1002"/>
                </a:lnTo>
                <a:lnTo>
                  <a:pt x="947" y="978"/>
                </a:lnTo>
                <a:lnTo>
                  <a:pt x="920" y="988"/>
                </a:lnTo>
                <a:lnTo>
                  <a:pt x="872" y="998"/>
                </a:lnTo>
                <a:lnTo>
                  <a:pt x="867" y="987"/>
                </a:lnTo>
                <a:lnTo>
                  <a:pt x="838" y="988"/>
                </a:lnTo>
                <a:lnTo>
                  <a:pt x="828" y="1012"/>
                </a:lnTo>
                <a:lnTo>
                  <a:pt x="803" y="1017"/>
                </a:lnTo>
                <a:lnTo>
                  <a:pt x="816" y="1029"/>
                </a:lnTo>
                <a:lnTo>
                  <a:pt x="833" y="1042"/>
                </a:lnTo>
                <a:lnTo>
                  <a:pt x="830" y="1061"/>
                </a:lnTo>
                <a:lnTo>
                  <a:pt x="845" y="1061"/>
                </a:lnTo>
                <a:lnTo>
                  <a:pt x="862" y="1045"/>
                </a:lnTo>
                <a:lnTo>
                  <a:pt x="873" y="1064"/>
                </a:lnTo>
                <a:lnTo>
                  <a:pt x="893" y="1039"/>
                </a:lnTo>
                <a:lnTo>
                  <a:pt x="897" y="1064"/>
                </a:lnTo>
                <a:lnTo>
                  <a:pt x="927" y="1074"/>
                </a:lnTo>
                <a:lnTo>
                  <a:pt x="929" y="1106"/>
                </a:lnTo>
                <a:lnTo>
                  <a:pt x="910" y="1116"/>
                </a:lnTo>
                <a:lnTo>
                  <a:pt x="915" y="1167"/>
                </a:lnTo>
                <a:lnTo>
                  <a:pt x="850" y="1150"/>
                </a:lnTo>
                <a:lnTo>
                  <a:pt x="826" y="1145"/>
                </a:lnTo>
                <a:lnTo>
                  <a:pt x="796" y="1140"/>
                </a:lnTo>
                <a:lnTo>
                  <a:pt x="786" y="1135"/>
                </a:lnTo>
                <a:lnTo>
                  <a:pt x="781" y="1160"/>
                </a:lnTo>
                <a:lnTo>
                  <a:pt x="769" y="1178"/>
                </a:lnTo>
                <a:lnTo>
                  <a:pt x="714" y="1172"/>
                </a:lnTo>
                <a:lnTo>
                  <a:pt x="707" y="1195"/>
                </a:lnTo>
                <a:lnTo>
                  <a:pt x="700" y="1224"/>
                </a:lnTo>
                <a:lnTo>
                  <a:pt x="700" y="1241"/>
                </a:lnTo>
                <a:lnTo>
                  <a:pt x="719" y="1247"/>
                </a:lnTo>
                <a:lnTo>
                  <a:pt x="734" y="1252"/>
                </a:lnTo>
                <a:lnTo>
                  <a:pt x="730" y="1272"/>
                </a:lnTo>
                <a:lnTo>
                  <a:pt x="756" y="1274"/>
                </a:lnTo>
                <a:lnTo>
                  <a:pt x="697" y="1279"/>
                </a:lnTo>
                <a:lnTo>
                  <a:pt x="670" y="1281"/>
                </a:lnTo>
                <a:lnTo>
                  <a:pt x="628" y="1274"/>
                </a:lnTo>
                <a:lnTo>
                  <a:pt x="616" y="1283"/>
                </a:lnTo>
                <a:lnTo>
                  <a:pt x="601" y="1271"/>
                </a:lnTo>
                <a:lnTo>
                  <a:pt x="576" y="1289"/>
                </a:lnTo>
                <a:lnTo>
                  <a:pt x="546" y="1291"/>
                </a:lnTo>
                <a:lnTo>
                  <a:pt x="504" y="1301"/>
                </a:lnTo>
                <a:lnTo>
                  <a:pt x="475" y="1303"/>
                </a:lnTo>
                <a:lnTo>
                  <a:pt x="438" y="1309"/>
                </a:lnTo>
                <a:lnTo>
                  <a:pt x="410" y="1303"/>
                </a:lnTo>
                <a:lnTo>
                  <a:pt x="378" y="1299"/>
                </a:lnTo>
                <a:lnTo>
                  <a:pt x="362" y="1288"/>
                </a:lnTo>
                <a:lnTo>
                  <a:pt x="344" y="1293"/>
                </a:lnTo>
                <a:lnTo>
                  <a:pt x="312" y="1289"/>
                </a:lnTo>
                <a:lnTo>
                  <a:pt x="278" y="1286"/>
                </a:lnTo>
                <a:lnTo>
                  <a:pt x="250" y="1272"/>
                </a:lnTo>
                <a:lnTo>
                  <a:pt x="215" y="1256"/>
                </a:lnTo>
                <a:lnTo>
                  <a:pt x="176" y="1251"/>
                </a:lnTo>
                <a:lnTo>
                  <a:pt x="134" y="1133"/>
                </a:lnTo>
                <a:lnTo>
                  <a:pt x="127" y="1104"/>
                </a:lnTo>
                <a:lnTo>
                  <a:pt x="112" y="1076"/>
                </a:lnTo>
                <a:lnTo>
                  <a:pt x="87" y="1047"/>
                </a:lnTo>
                <a:lnTo>
                  <a:pt x="67" y="1020"/>
                </a:lnTo>
                <a:lnTo>
                  <a:pt x="48" y="995"/>
                </a:lnTo>
                <a:lnTo>
                  <a:pt x="30" y="966"/>
                </a:lnTo>
                <a:lnTo>
                  <a:pt x="1" y="953"/>
                </a:lnTo>
                <a:close/>
              </a:path>
            </a:pathLst>
          </a:custGeom>
          <a:solidFill>
            <a:srgbClr val="92d05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4998960" y="1365120"/>
            <a:ext cx="127080" cy="274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823000" y="13651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Group 6" descr=""/>
          <p:cNvPicPr/>
          <p:nvPr/>
        </p:nvPicPr>
        <p:blipFill>
          <a:blip r:embed="rId5"/>
          <a:stretch/>
        </p:blipFill>
        <p:spPr>
          <a:xfrm>
            <a:off x="6735600" y="4237200"/>
            <a:ext cx="1116000" cy="822240"/>
          </a:xfrm>
          <a:prstGeom prst="rect">
            <a:avLst/>
          </a:prstGeom>
          <a:ln w="0">
            <a:noFill/>
          </a:ln>
        </p:spPr>
      </p:pic>
      <p:pic>
        <p:nvPicPr>
          <p:cNvPr id="504" name="Group 9" descr=""/>
          <p:cNvPicPr/>
          <p:nvPr/>
        </p:nvPicPr>
        <p:blipFill>
          <a:blip r:embed="rId6"/>
          <a:stretch/>
        </p:blipFill>
        <p:spPr>
          <a:xfrm>
            <a:off x="4694400" y="2755800"/>
            <a:ext cx="1163520" cy="1067040"/>
          </a:xfrm>
          <a:prstGeom prst="rect">
            <a:avLst/>
          </a:prstGeom>
          <a:ln w="0">
            <a:noFill/>
          </a:ln>
        </p:spPr>
      </p:pic>
      <p:pic>
        <p:nvPicPr>
          <p:cNvPr id="505" name="Group 12" descr=""/>
          <p:cNvPicPr/>
          <p:nvPr/>
        </p:nvPicPr>
        <p:blipFill>
          <a:blip r:embed="rId7"/>
          <a:stretch/>
        </p:blipFill>
        <p:spPr>
          <a:xfrm>
            <a:off x="5778360" y="2571840"/>
            <a:ext cx="1043280" cy="830160"/>
          </a:xfrm>
          <a:prstGeom prst="rect">
            <a:avLst/>
          </a:prstGeom>
          <a:ln w="0">
            <a:noFill/>
          </a:ln>
        </p:spPr>
      </p:pic>
      <p:pic>
        <p:nvPicPr>
          <p:cNvPr id="506" name="Group 15" descr=""/>
          <p:cNvPicPr/>
          <p:nvPr/>
        </p:nvPicPr>
        <p:blipFill>
          <a:blip r:embed="rId8"/>
          <a:stretch/>
        </p:blipFill>
        <p:spPr>
          <a:xfrm>
            <a:off x="6022800" y="3286080"/>
            <a:ext cx="914400" cy="1127160"/>
          </a:xfrm>
          <a:prstGeom prst="rect">
            <a:avLst/>
          </a:prstGeom>
          <a:ln w="0">
            <a:noFill/>
          </a:ln>
        </p:spPr>
      </p:pic>
      <p:pic>
        <p:nvPicPr>
          <p:cNvPr id="507" name="Group 18" descr=""/>
          <p:cNvPicPr/>
          <p:nvPr/>
        </p:nvPicPr>
        <p:blipFill>
          <a:blip r:embed="rId9"/>
          <a:stretch/>
        </p:blipFill>
        <p:spPr>
          <a:xfrm>
            <a:off x="5943600" y="4511520"/>
            <a:ext cx="914400" cy="1382760"/>
          </a:xfrm>
          <a:prstGeom prst="rect">
            <a:avLst/>
          </a:prstGeom>
          <a:ln w="0">
            <a:noFill/>
          </a:ln>
        </p:spPr>
      </p:pic>
      <p:pic>
        <p:nvPicPr>
          <p:cNvPr id="508" name="Group 21" descr=""/>
          <p:cNvPicPr/>
          <p:nvPr/>
        </p:nvPicPr>
        <p:blipFill>
          <a:blip r:embed="rId10"/>
          <a:stretch/>
        </p:blipFill>
        <p:spPr>
          <a:xfrm>
            <a:off x="5688000" y="2004840"/>
            <a:ext cx="1414440" cy="81144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24"/>
          <p:cNvSpPr/>
          <p:nvPr/>
        </p:nvSpPr>
        <p:spPr>
          <a:xfrm>
            <a:off x="4400640" y="2462040"/>
            <a:ext cx="1225440" cy="730440"/>
          </a:xfrm>
          <a:custGeom>
            <a:avLst/>
            <a:gdLst>
              <a:gd name="textAreaLeft" fmla="*/ 0 w 1225440"/>
              <a:gd name="textAreaRight" fmla="*/ 1225800 w 122544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1346" h="810">
                <a:moveTo>
                  <a:pt x="301" y="0"/>
                </a:moveTo>
                <a:lnTo>
                  <a:pt x="406" y="54"/>
                </a:lnTo>
                <a:lnTo>
                  <a:pt x="376" y="144"/>
                </a:lnTo>
                <a:lnTo>
                  <a:pt x="427" y="166"/>
                </a:lnTo>
                <a:lnTo>
                  <a:pt x="416" y="210"/>
                </a:lnTo>
                <a:lnTo>
                  <a:pt x="462" y="222"/>
                </a:lnTo>
                <a:lnTo>
                  <a:pt x="448" y="254"/>
                </a:lnTo>
                <a:lnTo>
                  <a:pt x="516" y="279"/>
                </a:lnTo>
                <a:lnTo>
                  <a:pt x="546" y="291"/>
                </a:lnTo>
                <a:lnTo>
                  <a:pt x="584" y="314"/>
                </a:lnTo>
                <a:lnTo>
                  <a:pt x="653" y="329"/>
                </a:lnTo>
                <a:lnTo>
                  <a:pt x="680" y="324"/>
                </a:lnTo>
                <a:lnTo>
                  <a:pt x="707" y="345"/>
                </a:lnTo>
                <a:lnTo>
                  <a:pt x="744" y="360"/>
                </a:lnTo>
                <a:lnTo>
                  <a:pt x="776" y="368"/>
                </a:lnTo>
                <a:lnTo>
                  <a:pt x="843" y="363"/>
                </a:lnTo>
                <a:lnTo>
                  <a:pt x="868" y="341"/>
                </a:lnTo>
                <a:lnTo>
                  <a:pt x="917" y="314"/>
                </a:lnTo>
                <a:lnTo>
                  <a:pt x="937" y="304"/>
                </a:lnTo>
                <a:lnTo>
                  <a:pt x="968" y="289"/>
                </a:lnTo>
                <a:lnTo>
                  <a:pt x="993" y="267"/>
                </a:lnTo>
                <a:lnTo>
                  <a:pt x="1026" y="267"/>
                </a:lnTo>
                <a:lnTo>
                  <a:pt x="1050" y="240"/>
                </a:lnTo>
                <a:lnTo>
                  <a:pt x="1053" y="210"/>
                </a:lnTo>
                <a:lnTo>
                  <a:pt x="1099" y="210"/>
                </a:lnTo>
                <a:lnTo>
                  <a:pt x="1152" y="224"/>
                </a:lnTo>
                <a:lnTo>
                  <a:pt x="1204" y="235"/>
                </a:lnTo>
                <a:lnTo>
                  <a:pt x="1199" y="281"/>
                </a:lnTo>
                <a:lnTo>
                  <a:pt x="1231" y="303"/>
                </a:lnTo>
                <a:lnTo>
                  <a:pt x="1257" y="316"/>
                </a:lnTo>
                <a:lnTo>
                  <a:pt x="1282" y="328"/>
                </a:lnTo>
                <a:lnTo>
                  <a:pt x="1275" y="368"/>
                </a:lnTo>
                <a:lnTo>
                  <a:pt x="1267" y="408"/>
                </a:lnTo>
                <a:lnTo>
                  <a:pt x="1289" y="417"/>
                </a:lnTo>
                <a:lnTo>
                  <a:pt x="1346" y="430"/>
                </a:lnTo>
                <a:lnTo>
                  <a:pt x="1327" y="491"/>
                </a:lnTo>
                <a:lnTo>
                  <a:pt x="1307" y="561"/>
                </a:lnTo>
                <a:lnTo>
                  <a:pt x="1302" y="588"/>
                </a:lnTo>
                <a:lnTo>
                  <a:pt x="1210" y="550"/>
                </a:lnTo>
                <a:lnTo>
                  <a:pt x="1208" y="568"/>
                </a:lnTo>
                <a:lnTo>
                  <a:pt x="1171" y="567"/>
                </a:lnTo>
                <a:lnTo>
                  <a:pt x="1142" y="555"/>
                </a:lnTo>
                <a:lnTo>
                  <a:pt x="1100" y="541"/>
                </a:lnTo>
                <a:lnTo>
                  <a:pt x="1092" y="573"/>
                </a:lnTo>
                <a:lnTo>
                  <a:pt x="1033" y="555"/>
                </a:lnTo>
                <a:lnTo>
                  <a:pt x="1003" y="541"/>
                </a:lnTo>
                <a:lnTo>
                  <a:pt x="942" y="540"/>
                </a:lnTo>
                <a:lnTo>
                  <a:pt x="944" y="563"/>
                </a:lnTo>
                <a:lnTo>
                  <a:pt x="947" y="585"/>
                </a:lnTo>
                <a:lnTo>
                  <a:pt x="936" y="605"/>
                </a:lnTo>
                <a:lnTo>
                  <a:pt x="917" y="617"/>
                </a:lnTo>
                <a:lnTo>
                  <a:pt x="900" y="634"/>
                </a:lnTo>
                <a:lnTo>
                  <a:pt x="884" y="642"/>
                </a:lnTo>
                <a:lnTo>
                  <a:pt x="860" y="639"/>
                </a:lnTo>
                <a:lnTo>
                  <a:pt x="848" y="629"/>
                </a:lnTo>
                <a:lnTo>
                  <a:pt x="831" y="625"/>
                </a:lnTo>
                <a:lnTo>
                  <a:pt x="828" y="635"/>
                </a:lnTo>
                <a:lnTo>
                  <a:pt x="793" y="625"/>
                </a:lnTo>
                <a:lnTo>
                  <a:pt x="776" y="627"/>
                </a:lnTo>
                <a:lnTo>
                  <a:pt x="771" y="635"/>
                </a:lnTo>
                <a:lnTo>
                  <a:pt x="749" y="642"/>
                </a:lnTo>
                <a:lnTo>
                  <a:pt x="737" y="652"/>
                </a:lnTo>
                <a:lnTo>
                  <a:pt x="737" y="671"/>
                </a:lnTo>
                <a:lnTo>
                  <a:pt x="721" y="681"/>
                </a:lnTo>
                <a:lnTo>
                  <a:pt x="710" y="703"/>
                </a:lnTo>
                <a:lnTo>
                  <a:pt x="695" y="728"/>
                </a:lnTo>
                <a:lnTo>
                  <a:pt x="667" y="731"/>
                </a:lnTo>
                <a:lnTo>
                  <a:pt x="643" y="713"/>
                </a:lnTo>
                <a:lnTo>
                  <a:pt x="591" y="723"/>
                </a:lnTo>
                <a:lnTo>
                  <a:pt x="554" y="715"/>
                </a:lnTo>
                <a:lnTo>
                  <a:pt x="531" y="716"/>
                </a:lnTo>
                <a:lnTo>
                  <a:pt x="519" y="706"/>
                </a:lnTo>
                <a:lnTo>
                  <a:pt x="517" y="740"/>
                </a:lnTo>
                <a:lnTo>
                  <a:pt x="502" y="736"/>
                </a:lnTo>
                <a:lnTo>
                  <a:pt x="463" y="731"/>
                </a:lnTo>
                <a:lnTo>
                  <a:pt x="460" y="753"/>
                </a:lnTo>
                <a:lnTo>
                  <a:pt x="430" y="758"/>
                </a:lnTo>
                <a:lnTo>
                  <a:pt x="420" y="750"/>
                </a:lnTo>
                <a:lnTo>
                  <a:pt x="385" y="736"/>
                </a:lnTo>
                <a:lnTo>
                  <a:pt x="354" y="728"/>
                </a:lnTo>
                <a:lnTo>
                  <a:pt x="341" y="698"/>
                </a:lnTo>
                <a:lnTo>
                  <a:pt x="324" y="676"/>
                </a:lnTo>
                <a:lnTo>
                  <a:pt x="321" y="699"/>
                </a:lnTo>
                <a:lnTo>
                  <a:pt x="316" y="716"/>
                </a:lnTo>
                <a:lnTo>
                  <a:pt x="317" y="720"/>
                </a:lnTo>
                <a:lnTo>
                  <a:pt x="317" y="725"/>
                </a:lnTo>
                <a:lnTo>
                  <a:pt x="316" y="730"/>
                </a:lnTo>
                <a:lnTo>
                  <a:pt x="312" y="735"/>
                </a:lnTo>
                <a:lnTo>
                  <a:pt x="304" y="743"/>
                </a:lnTo>
                <a:lnTo>
                  <a:pt x="301" y="748"/>
                </a:lnTo>
                <a:lnTo>
                  <a:pt x="289" y="765"/>
                </a:lnTo>
                <a:lnTo>
                  <a:pt x="314" y="810"/>
                </a:lnTo>
                <a:lnTo>
                  <a:pt x="223" y="778"/>
                </a:lnTo>
                <a:lnTo>
                  <a:pt x="183" y="763"/>
                </a:lnTo>
                <a:lnTo>
                  <a:pt x="149" y="772"/>
                </a:lnTo>
                <a:lnTo>
                  <a:pt x="112" y="765"/>
                </a:lnTo>
                <a:lnTo>
                  <a:pt x="94" y="745"/>
                </a:lnTo>
                <a:lnTo>
                  <a:pt x="69" y="706"/>
                </a:lnTo>
                <a:lnTo>
                  <a:pt x="55" y="661"/>
                </a:lnTo>
                <a:lnTo>
                  <a:pt x="43" y="634"/>
                </a:lnTo>
                <a:lnTo>
                  <a:pt x="30" y="595"/>
                </a:lnTo>
                <a:lnTo>
                  <a:pt x="15" y="560"/>
                </a:lnTo>
                <a:lnTo>
                  <a:pt x="6" y="535"/>
                </a:lnTo>
                <a:lnTo>
                  <a:pt x="0" y="498"/>
                </a:lnTo>
                <a:lnTo>
                  <a:pt x="18" y="466"/>
                </a:lnTo>
                <a:lnTo>
                  <a:pt x="57" y="410"/>
                </a:lnTo>
                <a:lnTo>
                  <a:pt x="99" y="346"/>
                </a:lnTo>
                <a:lnTo>
                  <a:pt x="109" y="271"/>
                </a:lnTo>
                <a:lnTo>
                  <a:pt x="129" y="227"/>
                </a:lnTo>
                <a:lnTo>
                  <a:pt x="143" y="166"/>
                </a:lnTo>
                <a:lnTo>
                  <a:pt x="156" y="102"/>
                </a:lnTo>
                <a:lnTo>
                  <a:pt x="164" y="70"/>
                </a:lnTo>
                <a:lnTo>
                  <a:pt x="180" y="52"/>
                </a:lnTo>
                <a:lnTo>
                  <a:pt x="233" y="62"/>
                </a:lnTo>
                <a:lnTo>
                  <a:pt x="274" y="74"/>
                </a:lnTo>
                <a:lnTo>
                  <a:pt x="285" y="35"/>
                </a:lnTo>
                <a:lnTo>
                  <a:pt x="301" y="0"/>
                </a:lnTo>
                <a:close/>
              </a:path>
            </a:pathLst>
          </a:custGeom>
          <a:solidFill>
            <a:srgbClr val="92d05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4567320" y="2784600"/>
            <a:ext cx="253800" cy="274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Group 26" descr=""/>
          <p:cNvPicPr/>
          <p:nvPr/>
        </p:nvPicPr>
        <p:blipFill>
          <a:blip r:embed="rId11"/>
          <a:stretch/>
        </p:blipFill>
        <p:spPr>
          <a:xfrm>
            <a:off x="6808680" y="3303720"/>
            <a:ext cx="804960" cy="101916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32"/>
          <p:cNvGrpSpPr/>
          <p:nvPr/>
        </p:nvGrpSpPr>
        <p:grpSpPr>
          <a:xfrm>
            <a:off x="5530680" y="4365720"/>
            <a:ext cx="900360" cy="775800"/>
            <a:chOff x="5530680" y="4365720"/>
            <a:chExt cx="900360" cy="775800"/>
          </a:xfrm>
        </p:grpSpPr>
        <p:sp>
          <p:nvSpPr>
            <p:cNvPr id="513" name="Freeform 33"/>
            <p:cNvSpPr/>
            <p:nvPr/>
          </p:nvSpPr>
          <p:spPr>
            <a:xfrm>
              <a:off x="5530680" y="4365720"/>
              <a:ext cx="900360" cy="77580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987" h="865">
                  <a:moveTo>
                    <a:pt x="5" y="372"/>
                  </a:moveTo>
                  <a:lnTo>
                    <a:pt x="24" y="380"/>
                  </a:lnTo>
                  <a:lnTo>
                    <a:pt x="41" y="347"/>
                  </a:lnTo>
                  <a:lnTo>
                    <a:pt x="68" y="337"/>
                  </a:lnTo>
                  <a:lnTo>
                    <a:pt x="90" y="352"/>
                  </a:lnTo>
                  <a:lnTo>
                    <a:pt x="106" y="365"/>
                  </a:lnTo>
                  <a:lnTo>
                    <a:pt x="113" y="382"/>
                  </a:lnTo>
                  <a:lnTo>
                    <a:pt x="120" y="405"/>
                  </a:lnTo>
                  <a:lnTo>
                    <a:pt x="148" y="429"/>
                  </a:lnTo>
                  <a:lnTo>
                    <a:pt x="162" y="434"/>
                  </a:lnTo>
                  <a:lnTo>
                    <a:pt x="197" y="432"/>
                  </a:lnTo>
                  <a:lnTo>
                    <a:pt x="204" y="416"/>
                  </a:lnTo>
                  <a:lnTo>
                    <a:pt x="212" y="387"/>
                  </a:lnTo>
                  <a:lnTo>
                    <a:pt x="216" y="362"/>
                  </a:lnTo>
                  <a:lnTo>
                    <a:pt x="216" y="342"/>
                  </a:lnTo>
                  <a:lnTo>
                    <a:pt x="227" y="323"/>
                  </a:lnTo>
                  <a:lnTo>
                    <a:pt x="252" y="303"/>
                  </a:lnTo>
                  <a:lnTo>
                    <a:pt x="283" y="256"/>
                  </a:lnTo>
                  <a:lnTo>
                    <a:pt x="303" y="226"/>
                  </a:lnTo>
                  <a:lnTo>
                    <a:pt x="325" y="200"/>
                  </a:lnTo>
                  <a:lnTo>
                    <a:pt x="338" y="178"/>
                  </a:lnTo>
                  <a:lnTo>
                    <a:pt x="331" y="155"/>
                  </a:lnTo>
                  <a:lnTo>
                    <a:pt x="323" y="140"/>
                  </a:lnTo>
                  <a:lnTo>
                    <a:pt x="333" y="111"/>
                  </a:lnTo>
                  <a:lnTo>
                    <a:pt x="353" y="99"/>
                  </a:lnTo>
                  <a:lnTo>
                    <a:pt x="368" y="99"/>
                  </a:lnTo>
                  <a:lnTo>
                    <a:pt x="399" y="101"/>
                  </a:lnTo>
                  <a:lnTo>
                    <a:pt x="415" y="113"/>
                  </a:lnTo>
                  <a:lnTo>
                    <a:pt x="431" y="128"/>
                  </a:lnTo>
                  <a:lnTo>
                    <a:pt x="441" y="147"/>
                  </a:lnTo>
                  <a:lnTo>
                    <a:pt x="431" y="183"/>
                  </a:lnTo>
                  <a:lnTo>
                    <a:pt x="426" y="199"/>
                  </a:lnTo>
                  <a:lnTo>
                    <a:pt x="431" y="220"/>
                  </a:lnTo>
                  <a:lnTo>
                    <a:pt x="439" y="242"/>
                  </a:lnTo>
                  <a:lnTo>
                    <a:pt x="452" y="263"/>
                  </a:lnTo>
                  <a:lnTo>
                    <a:pt x="481" y="273"/>
                  </a:lnTo>
                  <a:lnTo>
                    <a:pt x="498" y="271"/>
                  </a:lnTo>
                  <a:lnTo>
                    <a:pt x="515" y="259"/>
                  </a:lnTo>
                  <a:lnTo>
                    <a:pt x="528" y="222"/>
                  </a:lnTo>
                  <a:lnTo>
                    <a:pt x="547" y="200"/>
                  </a:lnTo>
                  <a:lnTo>
                    <a:pt x="570" y="180"/>
                  </a:lnTo>
                  <a:lnTo>
                    <a:pt x="599" y="172"/>
                  </a:lnTo>
                  <a:lnTo>
                    <a:pt x="669" y="183"/>
                  </a:lnTo>
                  <a:lnTo>
                    <a:pt x="723" y="177"/>
                  </a:lnTo>
                  <a:lnTo>
                    <a:pt x="757" y="158"/>
                  </a:lnTo>
                  <a:lnTo>
                    <a:pt x="778" y="148"/>
                  </a:lnTo>
                  <a:lnTo>
                    <a:pt x="792" y="121"/>
                  </a:lnTo>
                  <a:lnTo>
                    <a:pt x="800" y="93"/>
                  </a:lnTo>
                  <a:lnTo>
                    <a:pt x="802" y="67"/>
                  </a:lnTo>
                  <a:lnTo>
                    <a:pt x="815" y="41"/>
                  </a:lnTo>
                  <a:lnTo>
                    <a:pt x="827" y="0"/>
                  </a:lnTo>
                  <a:lnTo>
                    <a:pt x="864" y="2"/>
                  </a:lnTo>
                  <a:lnTo>
                    <a:pt x="869" y="22"/>
                  </a:lnTo>
                  <a:lnTo>
                    <a:pt x="888" y="27"/>
                  </a:lnTo>
                  <a:lnTo>
                    <a:pt x="901" y="27"/>
                  </a:lnTo>
                  <a:lnTo>
                    <a:pt x="918" y="29"/>
                  </a:lnTo>
                  <a:lnTo>
                    <a:pt x="931" y="20"/>
                  </a:lnTo>
                  <a:lnTo>
                    <a:pt x="951" y="41"/>
                  </a:lnTo>
                  <a:lnTo>
                    <a:pt x="946" y="76"/>
                  </a:lnTo>
                  <a:lnTo>
                    <a:pt x="943" y="118"/>
                  </a:lnTo>
                  <a:lnTo>
                    <a:pt x="940" y="160"/>
                  </a:lnTo>
                  <a:lnTo>
                    <a:pt x="935" y="210"/>
                  </a:lnTo>
                  <a:lnTo>
                    <a:pt x="936" y="249"/>
                  </a:lnTo>
                  <a:lnTo>
                    <a:pt x="925" y="263"/>
                  </a:lnTo>
                  <a:lnTo>
                    <a:pt x="933" y="284"/>
                  </a:lnTo>
                  <a:lnTo>
                    <a:pt x="948" y="298"/>
                  </a:lnTo>
                  <a:lnTo>
                    <a:pt x="945" y="320"/>
                  </a:lnTo>
                  <a:lnTo>
                    <a:pt x="946" y="352"/>
                  </a:lnTo>
                  <a:lnTo>
                    <a:pt x="950" y="382"/>
                  </a:lnTo>
                  <a:lnTo>
                    <a:pt x="960" y="412"/>
                  </a:lnTo>
                  <a:lnTo>
                    <a:pt x="960" y="436"/>
                  </a:lnTo>
                  <a:lnTo>
                    <a:pt x="987" y="483"/>
                  </a:lnTo>
                  <a:lnTo>
                    <a:pt x="957" y="496"/>
                  </a:lnTo>
                  <a:lnTo>
                    <a:pt x="940" y="505"/>
                  </a:lnTo>
                  <a:lnTo>
                    <a:pt x="930" y="516"/>
                  </a:lnTo>
                  <a:lnTo>
                    <a:pt x="923" y="525"/>
                  </a:lnTo>
                  <a:lnTo>
                    <a:pt x="953" y="518"/>
                  </a:lnTo>
                  <a:lnTo>
                    <a:pt x="957" y="532"/>
                  </a:lnTo>
                  <a:lnTo>
                    <a:pt x="963" y="550"/>
                  </a:lnTo>
                  <a:lnTo>
                    <a:pt x="972" y="562"/>
                  </a:lnTo>
                  <a:lnTo>
                    <a:pt x="953" y="569"/>
                  </a:lnTo>
                  <a:lnTo>
                    <a:pt x="941" y="574"/>
                  </a:lnTo>
                  <a:lnTo>
                    <a:pt x="911" y="570"/>
                  </a:lnTo>
                  <a:lnTo>
                    <a:pt x="879" y="564"/>
                  </a:lnTo>
                  <a:lnTo>
                    <a:pt x="854" y="567"/>
                  </a:lnTo>
                  <a:lnTo>
                    <a:pt x="852" y="533"/>
                  </a:lnTo>
                  <a:lnTo>
                    <a:pt x="864" y="518"/>
                  </a:lnTo>
                  <a:lnTo>
                    <a:pt x="847" y="511"/>
                  </a:lnTo>
                  <a:lnTo>
                    <a:pt x="846" y="498"/>
                  </a:lnTo>
                  <a:lnTo>
                    <a:pt x="822" y="518"/>
                  </a:lnTo>
                  <a:lnTo>
                    <a:pt x="804" y="521"/>
                  </a:lnTo>
                  <a:lnTo>
                    <a:pt x="780" y="528"/>
                  </a:lnTo>
                  <a:lnTo>
                    <a:pt x="770" y="511"/>
                  </a:lnTo>
                  <a:lnTo>
                    <a:pt x="746" y="508"/>
                  </a:lnTo>
                  <a:lnTo>
                    <a:pt x="730" y="496"/>
                  </a:lnTo>
                  <a:lnTo>
                    <a:pt x="711" y="488"/>
                  </a:lnTo>
                  <a:lnTo>
                    <a:pt x="688" y="501"/>
                  </a:lnTo>
                  <a:lnTo>
                    <a:pt x="701" y="527"/>
                  </a:lnTo>
                  <a:lnTo>
                    <a:pt x="710" y="542"/>
                  </a:lnTo>
                  <a:lnTo>
                    <a:pt x="713" y="550"/>
                  </a:lnTo>
                  <a:lnTo>
                    <a:pt x="711" y="569"/>
                  </a:lnTo>
                  <a:lnTo>
                    <a:pt x="706" y="595"/>
                  </a:lnTo>
                  <a:lnTo>
                    <a:pt x="678" y="595"/>
                  </a:lnTo>
                  <a:lnTo>
                    <a:pt x="646" y="585"/>
                  </a:lnTo>
                  <a:lnTo>
                    <a:pt x="636" y="569"/>
                  </a:lnTo>
                  <a:lnTo>
                    <a:pt x="642" y="542"/>
                  </a:lnTo>
                  <a:lnTo>
                    <a:pt x="651" y="532"/>
                  </a:lnTo>
                  <a:lnTo>
                    <a:pt x="651" y="520"/>
                  </a:lnTo>
                  <a:lnTo>
                    <a:pt x="612" y="516"/>
                  </a:lnTo>
                  <a:lnTo>
                    <a:pt x="605" y="488"/>
                  </a:lnTo>
                  <a:lnTo>
                    <a:pt x="538" y="481"/>
                  </a:lnTo>
                  <a:lnTo>
                    <a:pt x="533" y="505"/>
                  </a:lnTo>
                  <a:lnTo>
                    <a:pt x="520" y="508"/>
                  </a:lnTo>
                  <a:lnTo>
                    <a:pt x="516" y="520"/>
                  </a:lnTo>
                  <a:lnTo>
                    <a:pt x="478" y="515"/>
                  </a:lnTo>
                  <a:lnTo>
                    <a:pt x="468" y="454"/>
                  </a:lnTo>
                  <a:lnTo>
                    <a:pt x="446" y="454"/>
                  </a:lnTo>
                  <a:lnTo>
                    <a:pt x="449" y="434"/>
                  </a:lnTo>
                  <a:lnTo>
                    <a:pt x="432" y="447"/>
                  </a:lnTo>
                  <a:lnTo>
                    <a:pt x="419" y="434"/>
                  </a:lnTo>
                  <a:lnTo>
                    <a:pt x="410" y="441"/>
                  </a:lnTo>
                  <a:lnTo>
                    <a:pt x="399" y="449"/>
                  </a:lnTo>
                  <a:lnTo>
                    <a:pt x="390" y="491"/>
                  </a:lnTo>
                  <a:lnTo>
                    <a:pt x="372" y="478"/>
                  </a:lnTo>
                  <a:lnTo>
                    <a:pt x="347" y="478"/>
                  </a:lnTo>
                  <a:lnTo>
                    <a:pt x="342" y="520"/>
                  </a:lnTo>
                  <a:lnTo>
                    <a:pt x="365" y="532"/>
                  </a:lnTo>
                  <a:lnTo>
                    <a:pt x="399" y="537"/>
                  </a:lnTo>
                  <a:lnTo>
                    <a:pt x="414" y="538"/>
                  </a:lnTo>
                  <a:lnTo>
                    <a:pt x="405" y="574"/>
                  </a:lnTo>
                  <a:lnTo>
                    <a:pt x="400" y="602"/>
                  </a:lnTo>
                  <a:lnTo>
                    <a:pt x="402" y="614"/>
                  </a:lnTo>
                  <a:lnTo>
                    <a:pt x="429" y="617"/>
                  </a:lnTo>
                  <a:lnTo>
                    <a:pt x="444" y="611"/>
                  </a:lnTo>
                  <a:lnTo>
                    <a:pt x="452" y="575"/>
                  </a:lnTo>
                  <a:lnTo>
                    <a:pt x="474" y="577"/>
                  </a:lnTo>
                  <a:lnTo>
                    <a:pt x="484" y="564"/>
                  </a:lnTo>
                  <a:lnTo>
                    <a:pt x="510" y="564"/>
                  </a:lnTo>
                  <a:lnTo>
                    <a:pt x="540" y="574"/>
                  </a:lnTo>
                  <a:lnTo>
                    <a:pt x="543" y="611"/>
                  </a:lnTo>
                  <a:lnTo>
                    <a:pt x="530" y="622"/>
                  </a:lnTo>
                  <a:lnTo>
                    <a:pt x="506" y="622"/>
                  </a:lnTo>
                  <a:lnTo>
                    <a:pt x="468" y="614"/>
                  </a:lnTo>
                  <a:lnTo>
                    <a:pt x="476" y="634"/>
                  </a:lnTo>
                  <a:lnTo>
                    <a:pt x="484" y="653"/>
                  </a:lnTo>
                  <a:lnTo>
                    <a:pt x="501" y="669"/>
                  </a:lnTo>
                  <a:lnTo>
                    <a:pt x="498" y="700"/>
                  </a:lnTo>
                  <a:lnTo>
                    <a:pt x="533" y="706"/>
                  </a:lnTo>
                  <a:lnTo>
                    <a:pt x="531" y="765"/>
                  </a:lnTo>
                  <a:lnTo>
                    <a:pt x="513" y="765"/>
                  </a:lnTo>
                  <a:lnTo>
                    <a:pt x="493" y="760"/>
                  </a:lnTo>
                  <a:lnTo>
                    <a:pt x="491" y="789"/>
                  </a:lnTo>
                  <a:lnTo>
                    <a:pt x="471" y="814"/>
                  </a:lnTo>
                  <a:lnTo>
                    <a:pt x="456" y="826"/>
                  </a:lnTo>
                  <a:lnTo>
                    <a:pt x="471" y="865"/>
                  </a:lnTo>
                  <a:lnTo>
                    <a:pt x="426" y="858"/>
                  </a:lnTo>
                  <a:lnTo>
                    <a:pt x="421" y="838"/>
                  </a:lnTo>
                  <a:lnTo>
                    <a:pt x="372" y="834"/>
                  </a:lnTo>
                  <a:lnTo>
                    <a:pt x="321" y="826"/>
                  </a:lnTo>
                  <a:lnTo>
                    <a:pt x="252" y="822"/>
                  </a:lnTo>
                  <a:lnTo>
                    <a:pt x="241" y="791"/>
                  </a:lnTo>
                  <a:lnTo>
                    <a:pt x="229" y="754"/>
                  </a:lnTo>
                  <a:lnTo>
                    <a:pt x="207" y="735"/>
                  </a:lnTo>
                  <a:lnTo>
                    <a:pt x="174" y="727"/>
                  </a:lnTo>
                  <a:lnTo>
                    <a:pt x="138" y="730"/>
                  </a:lnTo>
                  <a:lnTo>
                    <a:pt x="116" y="711"/>
                  </a:lnTo>
                  <a:lnTo>
                    <a:pt x="121" y="680"/>
                  </a:lnTo>
                  <a:lnTo>
                    <a:pt x="143" y="638"/>
                  </a:lnTo>
                  <a:lnTo>
                    <a:pt x="172" y="584"/>
                  </a:lnTo>
                  <a:lnTo>
                    <a:pt x="165" y="555"/>
                  </a:lnTo>
                  <a:lnTo>
                    <a:pt x="155" y="537"/>
                  </a:lnTo>
                  <a:lnTo>
                    <a:pt x="101" y="513"/>
                  </a:lnTo>
                  <a:lnTo>
                    <a:pt x="66" y="484"/>
                  </a:lnTo>
                  <a:lnTo>
                    <a:pt x="34" y="458"/>
                  </a:lnTo>
                  <a:lnTo>
                    <a:pt x="12" y="426"/>
                  </a:lnTo>
                  <a:lnTo>
                    <a:pt x="0" y="407"/>
                  </a:lnTo>
                  <a:lnTo>
                    <a:pt x="5" y="372"/>
                  </a:lnTo>
                  <a:close/>
                </a:path>
              </a:pathLst>
            </a:custGeom>
            <a:solidFill>
              <a:srgbClr val="ffff00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4"/>
            <p:cNvSpPr/>
            <p:nvPr/>
          </p:nvSpPr>
          <p:spPr>
            <a:xfrm>
              <a:off x="6024960" y="4526280"/>
              <a:ext cx="253800" cy="274680"/>
            </a:xfrm>
            <a:prstGeom prst="rect">
              <a:avLst/>
            </a:prstGeom>
            <a:solidFill>
              <a:srgbClr val="f5f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1a17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35"/>
          <p:cNvGrpSpPr/>
          <p:nvPr/>
        </p:nvGrpSpPr>
        <p:grpSpPr>
          <a:xfrm>
            <a:off x="4767120" y="4656240"/>
            <a:ext cx="754200" cy="1032840"/>
            <a:chOff x="4767120" y="4656240"/>
            <a:chExt cx="754200" cy="1032840"/>
          </a:xfrm>
        </p:grpSpPr>
        <p:sp>
          <p:nvSpPr>
            <p:cNvPr id="516" name="Freeform 36"/>
            <p:cNvSpPr/>
            <p:nvPr/>
          </p:nvSpPr>
          <p:spPr>
            <a:xfrm>
              <a:off x="4767120" y="4656240"/>
              <a:ext cx="754200" cy="1032840"/>
            </a:xfrm>
            <a:custGeom>
              <a:avLst/>
              <a:gdLst>
                <a:gd name="textAreaLeft" fmla="*/ 0 w 754200"/>
                <a:gd name="textAreaRight" fmla="*/ 754560 w 754200"/>
                <a:gd name="textAreaTop" fmla="*/ 0 h 1032840"/>
                <a:gd name="textAreaBottom" fmla="*/ 1033200 h 1032840"/>
              </a:gdLst>
              <a:ahLst/>
              <a:rect l="textAreaLeft" t="textAreaTop" r="textAreaRight" b="textAreaBottom"/>
              <a:pathLst>
                <a:path w="826" h="1151">
                  <a:moveTo>
                    <a:pt x="116" y="0"/>
                  </a:moveTo>
                  <a:lnTo>
                    <a:pt x="143" y="29"/>
                  </a:lnTo>
                  <a:lnTo>
                    <a:pt x="154" y="34"/>
                  </a:lnTo>
                  <a:lnTo>
                    <a:pt x="166" y="69"/>
                  </a:lnTo>
                  <a:lnTo>
                    <a:pt x="186" y="100"/>
                  </a:lnTo>
                  <a:lnTo>
                    <a:pt x="230" y="106"/>
                  </a:lnTo>
                  <a:lnTo>
                    <a:pt x="247" y="126"/>
                  </a:lnTo>
                  <a:lnTo>
                    <a:pt x="267" y="145"/>
                  </a:lnTo>
                  <a:lnTo>
                    <a:pt x="282" y="132"/>
                  </a:lnTo>
                  <a:lnTo>
                    <a:pt x="299" y="152"/>
                  </a:lnTo>
                  <a:lnTo>
                    <a:pt x="334" y="174"/>
                  </a:lnTo>
                  <a:lnTo>
                    <a:pt x="369" y="185"/>
                  </a:lnTo>
                  <a:lnTo>
                    <a:pt x="373" y="158"/>
                  </a:lnTo>
                  <a:lnTo>
                    <a:pt x="408" y="155"/>
                  </a:lnTo>
                  <a:lnTo>
                    <a:pt x="426" y="157"/>
                  </a:lnTo>
                  <a:lnTo>
                    <a:pt x="482" y="148"/>
                  </a:lnTo>
                  <a:lnTo>
                    <a:pt x="490" y="170"/>
                  </a:lnTo>
                  <a:lnTo>
                    <a:pt x="534" y="187"/>
                  </a:lnTo>
                  <a:lnTo>
                    <a:pt x="534" y="206"/>
                  </a:lnTo>
                  <a:lnTo>
                    <a:pt x="559" y="207"/>
                  </a:lnTo>
                  <a:lnTo>
                    <a:pt x="610" y="216"/>
                  </a:lnTo>
                  <a:lnTo>
                    <a:pt x="626" y="221"/>
                  </a:lnTo>
                  <a:lnTo>
                    <a:pt x="618" y="253"/>
                  </a:lnTo>
                  <a:lnTo>
                    <a:pt x="586" y="261"/>
                  </a:lnTo>
                  <a:lnTo>
                    <a:pt x="593" y="278"/>
                  </a:lnTo>
                  <a:lnTo>
                    <a:pt x="596" y="295"/>
                  </a:lnTo>
                  <a:lnTo>
                    <a:pt x="623" y="311"/>
                  </a:lnTo>
                  <a:lnTo>
                    <a:pt x="650" y="322"/>
                  </a:lnTo>
                  <a:lnTo>
                    <a:pt x="645" y="348"/>
                  </a:lnTo>
                  <a:lnTo>
                    <a:pt x="652" y="370"/>
                  </a:lnTo>
                  <a:lnTo>
                    <a:pt x="643" y="399"/>
                  </a:lnTo>
                  <a:lnTo>
                    <a:pt x="635" y="412"/>
                  </a:lnTo>
                  <a:lnTo>
                    <a:pt x="679" y="404"/>
                  </a:lnTo>
                  <a:lnTo>
                    <a:pt x="697" y="416"/>
                  </a:lnTo>
                  <a:lnTo>
                    <a:pt x="722" y="411"/>
                  </a:lnTo>
                  <a:lnTo>
                    <a:pt x="746" y="438"/>
                  </a:lnTo>
                  <a:lnTo>
                    <a:pt x="756" y="461"/>
                  </a:lnTo>
                  <a:lnTo>
                    <a:pt x="732" y="485"/>
                  </a:lnTo>
                  <a:lnTo>
                    <a:pt x="752" y="503"/>
                  </a:lnTo>
                  <a:lnTo>
                    <a:pt x="768" y="503"/>
                  </a:lnTo>
                  <a:lnTo>
                    <a:pt x="771" y="520"/>
                  </a:lnTo>
                  <a:lnTo>
                    <a:pt x="784" y="544"/>
                  </a:lnTo>
                  <a:lnTo>
                    <a:pt x="794" y="586"/>
                  </a:lnTo>
                  <a:lnTo>
                    <a:pt x="815" y="589"/>
                  </a:lnTo>
                  <a:lnTo>
                    <a:pt x="813" y="612"/>
                  </a:lnTo>
                  <a:lnTo>
                    <a:pt x="825" y="643"/>
                  </a:lnTo>
                  <a:lnTo>
                    <a:pt x="816" y="671"/>
                  </a:lnTo>
                  <a:lnTo>
                    <a:pt x="826" y="708"/>
                  </a:lnTo>
                  <a:lnTo>
                    <a:pt x="821" y="728"/>
                  </a:lnTo>
                  <a:lnTo>
                    <a:pt x="796" y="685"/>
                  </a:lnTo>
                  <a:lnTo>
                    <a:pt x="783" y="673"/>
                  </a:lnTo>
                  <a:lnTo>
                    <a:pt x="756" y="676"/>
                  </a:lnTo>
                  <a:lnTo>
                    <a:pt x="739" y="703"/>
                  </a:lnTo>
                  <a:lnTo>
                    <a:pt x="729" y="728"/>
                  </a:lnTo>
                  <a:lnTo>
                    <a:pt x="721" y="752"/>
                  </a:lnTo>
                  <a:lnTo>
                    <a:pt x="707" y="786"/>
                  </a:lnTo>
                  <a:lnTo>
                    <a:pt x="699" y="813"/>
                  </a:lnTo>
                  <a:lnTo>
                    <a:pt x="721" y="863"/>
                  </a:lnTo>
                  <a:lnTo>
                    <a:pt x="734" y="887"/>
                  </a:lnTo>
                  <a:lnTo>
                    <a:pt x="724" y="930"/>
                  </a:lnTo>
                  <a:lnTo>
                    <a:pt x="726" y="957"/>
                  </a:lnTo>
                  <a:lnTo>
                    <a:pt x="726" y="977"/>
                  </a:lnTo>
                  <a:lnTo>
                    <a:pt x="710" y="1019"/>
                  </a:lnTo>
                  <a:lnTo>
                    <a:pt x="697" y="1045"/>
                  </a:lnTo>
                  <a:lnTo>
                    <a:pt x="668" y="1061"/>
                  </a:lnTo>
                  <a:lnTo>
                    <a:pt x="631" y="1066"/>
                  </a:lnTo>
                  <a:lnTo>
                    <a:pt x="608" y="1070"/>
                  </a:lnTo>
                  <a:lnTo>
                    <a:pt x="573" y="1088"/>
                  </a:lnTo>
                  <a:lnTo>
                    <a:pt x="564" y="1112"/>
                  </a:lnTo>
                  <a:lnTo>
                    <a:pt x="536" y="1129"/>
                  </a:lnTo>
                  <a:lnTo>
                    <a:pt x="494" y="1135"/>
                  </a:lnTo>
                  <a:lnTo>
                    <a:pt x="463" y="1129"/>
                  </a:lnTo>
                  <a:lnTo>
                    <a:pt x="440" y="1120"/>
                  </a:lnTo>
                  <a:lnTo>
                    <a:pt x="430" y="1093"/>
                  </a:lnTo>
                  <a:lnTo>
                    <a:pt x="425" y="1077"/>
                  </a:lnTo>
                  <a:lnTo>
                    <a:pt x="403" y="1083"/>
                  </a:lnTo>
                  <a:lnTo>
                    <a:pt x="366" y="1093"/>
                  </a:lnTo>
                  <a:lnTo>
                    <a:pt x="349" y="1098"/>
                  </a:lnTo>
                  <a:lnTo>
                    <a:pt x="339" y="1109"/>
                  </a:lnTo>
                  <a:lnTo>
                    <a:pt x="344" y="1124"/>
                  </a:lnTo>
                  <a:lnTo>
                    <a:pt x="334" y="1137"/>
                  </a:lnTo>
                  <a:lnTo>
                    <a:pt x="284" y="1151"/>
                  </a:lnTo>
                  <a:lnTo>
                    <a:pt x="275" y="1124"/>
                  </a:lnTo>
                  <a:lnTo>
                    <a:pt x="285" y="1088"/>
                  </a:lnTo>
                  <a:lnTo>
                    <a:pt x="260" y="1085"/>
                  </a:lnTo>
                  <a:lnTo>
                    <a:pt x="253" y="1063"/>
                  </a:lnTo>
                  <a:lnTo>
                    <a:pt x="238" y="1046"/>
                  </a:lnTo>
                  <a:lnTo>
                    <a:pt x="218" y="1031"/>
                  </a:lnTo>
                  <a:lnTo>
                    <a:pt x="205" y="1024"/>
                  </a:lnTo>
                  <a:lnTo>
                    <a:pt x="190" y="991"/>
                  </a:lnTo>
                  <a:lnTo>
                    <a:pt x="213" y="981"/>
                  </a:lnTo>
                  <a:lnTo>
                    <a:pt x="213" y="957"/>
                  </a:lnTo>
                  <a:lnTo>
                    <a:pt x="215" y="940"/>
                  </a:lnTo>
                  <a:lnTo>
                    <a:pt x="228" y="930"/>
                  </a:lnTo>
                  <a:lnTo>
                    <a:pt x="220" y="907"/>
                  </a:lnTo>
                  <a:lnTo>
                    <a:pt x="208" y="883"/>
                  </a:lnTo>
                  <a:lnTo>
                    <a:pt x="227" y="856"/>
                  </a:lnTo>
                  <a:lnTo>
                    <a:pt x="215" y="843"/>
                  </a:lnTo>
                  <a:lnTo>
                    <a:pt x="203" y="823"/>
                  </a:lnTo>
                  <a:lnTo>
                    <a:pt x="218" y="799"/>
                  </a:lnTo>
                  <a:lnTo>
                    <a:pt x="220" y="774"/>
                  </a:lnTo>
                  <a:lnTo>
                    <a:pt x="218" y="735"/>
                  </a:lnTo>
                  <a:lnTo>
                    <a:pt x="144" y="734"/>
                  </a:lnTo>
                  <a:lnTo>
                    <a:pt x="121" y="717"/>
                  </a:lnTo>
                  <a:lnTo>
                    <a:pt x="102" y="720"/>
                  </a:lnTo>
                  <a:lnTo>
                    <a:pt x="94" y="703"/>
                  </a:lnTo>
                  <a:lnTo>
                    <a:pt x="80" y="702"/>
                  </a:lnTo>
                  <a:lnTo>
                    <a:pt x="85" y="680"/>
                  </a:lnTo>
                  <a:lnTo>
                    <a:pt x="101" y="656"/>
                  </a:lnTo>
                  <a:lnTo>
                    <a:pt x="79" y="639"/>
                  </a:lnTo>
                  <a:lnTo>
                    <a:pt x="90" y="629"/>
                  </a:lnTo>
                  <a:lnTo>
                    <a:pt x="117" y="606"/>
                  </a:lnTo>
                  <a:lnTo>
                    <a:pt x="146" y="609"/>
                  </a:lnTo>
                  <a:lnTo>
                    <a:pt x="159" y="591"/>
                  </a:lnTo>
                  <a:lnTo>
                    <a:pt x="205" y="574"/>
                  </a:lnTo>
                  <a:lnTo>
                    <a:pt x="195" y="564"/>
                  </a:lnTo>
                  <a:lnTo>
                    <a:pt x="196" y="537"/>
                  </a:lnTo>
                  <a:lnTo>
                    <a:pt x="149" y="527"/>
                  </a:lnTo>
                  <a:lnTo>
                    <a:pt x="107" y="501"/>
                  </a:lnTo>
                  <a:lnTo>
                    <a:pt x="129" y="483"/>
                  </a:lnTo>
                  <a:lnTo>
                    <a:pt x="126" y="449"/>
                  </a:lnTo>
                  <a:lnTo>
                    <a:pt x="107" y="443"/>
                  </a:lnTo>
                  <a:lnTo>
                    <a:pt x="53" y="439"/>
                  </a:lnTo>
                  <a:lnTo>
                    <a:pt x="35" y="446"/>
                  </a:lnTo>
                  <a:lnTo>
                    <a:pt x="40" y="402"/>
                  </a:lnTo>
                  <a:lnTo>
                    <a:pt x="6" y="399"/>
                  </a:lnTo>
                  <a:lnTo>
                    <a:pt x="0" y="367"/>
                  </a:lnTo>
                  <a:lnTo>
                    <a:pt x="18" y="359"/>
                  </a:lnTo>
                  <a:lnTo>
                    <a:pt x="38" y="375"/>
                  </a:lnTo>
                  <a:lnTo>
                    <a:pt x="50" y="357"/>
                  </a:lnTo>
                  <a:lnTo>
                    <a:pt x="48" y="340"/>
                  </a:lnTo>
                  <a:lnTo>
                    <a:pt x="85" y="343"/>
                  </a:lnTo>
                  <a:lnTo>
                    <a:pt x="104" y="337"/>
                  </a:lnTo>
                  <a:lnTo>
                    <a:pt x="84" y="317"/>
                  </a:lnTo>
                  <a:lnTo>
                    <a:pt x="52" y="295"/>
                  </a:lnTo>
                  <a:lnTo>
                    <a:pt x="52" y="248"/>
                  </a:lnTo>
                  <a:lnTo>
                    <a:pt x="84" y="232"/>
                  </a:lnTo>
                  <a:lnTo>
                    <a:pt x="101" y="217"/>
                  </a:lnTo>
                  <a:lnTo>
                    <a:pt x="116" y="227"/>
                  </a:lnTo>
                  <a:lnTo>
                    <a:pt x="132" y="232"/>
                  </a:lnTo>
                  <a:lnTo>
                    <a:pt x="122" y="209"/>
                  </a:lnTo>
                  <a:lnTo>
                    <a:pt x="111" y="206"/>
                  </a:lnTo>
                  <a:lnTo>
                    <a:pt x="106" y="172"/>
                  </a:lnTo>
                  <a:lnTo>
                    <a:pt x="122" y="145"/>
                  </a:lnTo>
                  <a:lnTo>
                    <a:pt x="127" y="116"/>
                  </a:lnTo>
                  <a:lnTo>
                    <a:pt x="111" y="88"/>
                  </a:lnTo>
                  <a:lnTo>
                    <a:pt x="111" y="69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00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37"/>
            <p:cNvSpPr/>
            <p:nvPr/>
          </p:nvSpPr>
          <p:spPr>
            <a:xfrm>
              <a:off x="4987440" y="4947840"/>
              <a:ext cx="25380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1a17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Group 38" descr=""/>
          <p:cNvPicPr/>
          <p:nvPr/>
        </p:nvPicPr>
        <p:blipFill>
          <a:blip r:embed="rId12"/>
          <a:stretch/>
        </p:blipFill>
        <p:spPr>
          <a:xfrm>
            <a:off x="4595760" y="5499000"/>
            <a:ext cx="993960" cy="932040"/>
          </a:xfrm>
          <a:prstGeom prst="rect">
            <a:avLst/>
          </a:prstGeom>
          <a:ln w="0">
            <a:noFill/>
          </a:ln>
        </p:spPr>
      </p:pic>
      <p:pic>
        <p:nvPicPr>
          <p:cNvPr id="519" name="Group 41" descr=""/>
          <p:cNvPicPr/>
          <p:nvPr/>
        </p:nvPicPr>
        <p:blipFill>
          <a:blip r:embed="rId13"/>
          <a:stretch/>
        </p:blipFill>
        <p:spPr>
          <a:xfrm>
            <a:off x="6377040" y="1311120"/>
            <a:ext cx="1395360" cy="1146240"/>
          </a:xfrm>
          <a:prstGeom prst="rect">
            <a:avLst/>
          </a:prstGeom>
          <a:ln w="0">
            <a:noFill/>
          </a:ln>
        </p:spPr>
      </p:pic>
      <p:pic>
        <p:nvPicPr>
          <p:cNvPr id="520" name="Group 44" descr=""/>
          <p:cNvPicPr/>
          <p:nvPr/>
        </p:nvPicPr>
        <p:blipFill>
          <a:blip r:embed="rId14"/>
          <a:stretch/>
        </p:blipFill>
        <p:spPr>
          <a:xfrm>
            <a:off x="6211800" y="426960"/>
            <a:ext cx="1427400" cy="119376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7"/>
          <p:cNvSpPr/>
          <p:nvPr/>
        </p:nvSpPr>
        <p:spPr>
          <a:xfrm>
            <a:off x="3627360" y="901800"/>
            <a:ext cx="1147680" cy="108432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259" h="1216">
                <a:moveTo>
                  <a:pt x="105" y="225"/>
                </a:moveTo>
                <a:lnTo>
                  <a:pt x="404" y="306"/>
                </a:lnTo>
                <a:lnTo>
                  <a:pt x="461" y="138"/>
                </a:lnTo>
                <a:lnTo>
                  <a:pt x="684" y="200"/>
                </a:lnTo>
                <a:lnTo>
                  <a:pt x="741" y="0"/>
                </a:lnTo>
                <a:lnTo>
                  <a:pt x="1077" y="81"/>
                </a:lnTo>
                <a:lnTo>
                  <a:pt x="1022" y="281"/>
                </a:lnTo>
                <a:lnTo>
                  <a:pt x="1259" y="350"/>
                </a:lnTo>
                <a:lnTo>
                  <a:pt x="1197" y="588"/>
                </a:lnTo>
                <a:lnTo>
                  <a:pt x="1166" y="592"/>
                </a:lnTo>
                <a:lnTo>
                  <a:pt x="1166" y="637"/>
                </a:lnTo>
                <a:lnTo>
                  <a:pt x="1163" y="684"/>
                </a:lnTo>
                <a:lnTo>
                  <a:pt x="1128" y="688"/>
                </a:lnTo>
                <a:lnTo>
                  <a:pt x="1062" y="915"/>
                </a:lnTo>
                <a:lnTo>
                  <a:pt x="1025" y="903"/>
                </a:lnTo>
                <a:lnTo>
                  <a:pt x="1019" y="937"/>
                </a:lnTo>
                <a:lnTo>
                  <a:pt x="1015" y="1005"/>
                </a:lnTo>
                <a:lnTo>
                  <a:pt x="1025" y="1140"/>
                </a:lnTo>
                <a:lnTo>
                  <a:pt x="992" y="1216"/>
                </a:lnTo>
                <a:lnTo>
                  <a:pt x="773" y="1216"/>
                </a:lnTo>
                <a:lnTo>
                  <a:pt x="683" y="1216"/>
                </a:lnTo>
                <a:lnTo>
                  <a:pt x="646" y="1199"/>
                </a:lnTo>
                <a:lnTo>
                  <a:pt x="595" y="1194"/>
                </a:lnTo>
                <a:lnTo>
                  <a:pt x="555" y="1180"/>
                </a:lnTo>
                <a:lnTo>
                  <a:pt x="476" y="1165"/>
                </a:lnTo>
                <a:lnTo>
                  <a:pt x="417" y="1155"/>
                </a:lnTo>
                <a:lnTo>
                  <a:pt x="370" y="1133"/>
                </a:lnTo>
                <a:lnTo>
                  <a:pt x="325" y="1090"/>
                </a:lnTo>
                <a:lnTo>
                  <a:pt x="358" y="932"/>
                </a:lnTo>
                <a:lnTo>
                  <a:pt x="330" y="918"/>
                </a:lnTo>
                <a:lnTo>
                  <a:pt x="355" y="829"/>
                </a:lnTo>
                <a:lnTo>
                  <a:pt x="217" y="778"/>
                </a:lnTo>
                <a:lnTo>
                  <a:pt x="242" y="688"/>
                </a:lnTo>
                <a:lnTo>
                  <a:pt x="0" y="607"/>
                </a:lnTo>
                <a:lnTo>
                  <a:pt x="105" y="225"/>
                </a:lnTo>
                <a:close/>
              </a:path>
            </a:pathLst>
          </a:custGeom>
          <a:solidFill>
            <a:srgbClr val="92d05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8"/>
          <p:cNvSpPr/>
          <p:nvPr/>
        </p:nvSpPr>
        <p:spPr>
          <a:xfrm>
            <a:off x="4092480" y="1255680"/>
            <a:ext cx="127080" cy="274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Group 49" descr=""/>
          <p:cNvPicPr/>
          <p:nvPr/>
        </p:nvPicPr>
        <p:blipFill>
          <a:blip r:embed="rId15"/>
          <a:stretch/>
        </p:blipFill>
        <p:spPr>
          <a:xfrm>
            <a:off x="5278320" y="3005280"/>
            <a:ext cx="914400" cy="591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52" descr=""/>
          <p:cNvPicPr/>
          <p:nvPr/>
        </p:nvPicPr>
        <p:blipFill>
          <a:blip r:embed="rId16"/>
          <a:stretch/>
        </p:blipFill>
        <p:spPr>
          <a:xfrm>
            <a:off x="6602400" y="2346480"/>
            <a:ext cx="1060560" cy="1152360"/>
          </a:xfrm>
          <a:prstGeom prst="rect">
            <a:avLst/>
          </a:prstGeom>
          <a:ln w="0">
            <a:noFill/>
          </a:ln>
        </p:spPr>
      </p:pic>
      <p:pic>
        <p:nvPicPr>
          <p:cNvPr id="525" name="Group 55" descr=""/>
          <p:cNvPicPr/>
          <p:nvPr/>
        </p:nvPicPr>
        <p:blipFill>
          <a:blip r:embed="rId17"/>
          <a:stretch/>
        </p:blipFill>
        <p:spPr>
          <a:xfrm>
            <a:off x="4627440" y="3614760"/>
            <a:ext cx="987480" cy="957240"/>
          </a:xfrm>
          <a:prstGeom prst="rect">
            <a:avLst/>
          </a:prstGeom>
          <a:ln w="0">
            <a:noFill/>
          </a:ln>
        </p:spPr>
      </p:pic>
      <p:pic>
        <p:nvPicPr>
          <p:cNvPr id="526" name="Group 58" descr=""/>
          <p:cNvPicPr/>
          <p:nvPr/>
        </p:nvPicPr>
        <p:blipFill>
          <a:blip r:embed="rId18"/>
          <a:stretch/>
        </p:blipFill>
        <p:spPr>
          <a:xfrm>
            <a:off x="5327640" y="3359160"/>
            <a:ext cx="933480" cy="841320"/>
          </a:xfrm>
          <a:prstGeom prst="rect">
            <a:avLst/>
          </a:prstGeom>
          <a:ln w="0">
            <a:noFill/>
          </a:ln>
        </p:spPr>
      </p:pic>
      <p:pic>
        <p:nvPicPr>
          <p:cNvPr id="527" name="Group 61" descr=""/>
          <p:cNvPicPr/>
          <p:nvPr/>
        </p:nvPicPr>
        <p:blipFill>
          <a:blip r:embed="rId19"/>
          <a:stretch/>
        </p:blipFill>
        <p:spPr>
          <a:xfrm>
            <a:off x="6802560" y="280980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8" name="Group 64" descr=""/>
          <p:cNvPicPr/>
          <p:nvPr/>
        </p:nvPicPr>
        <p:blipFill>
          <a:blip r:embed="rId20"/>
          <a:stretch/>
        </p:blipFill>
        <p:spPr>
          <a:xfrm>
            <a:off x="6357960" y="4054320"/>
            <a:ext cx="646200" cy="749520"/>
          </a:xfrm>
          <a:prstGeom prst="rect">
            <a:avLst/>
          </a:prstGeom>
          <a:ln w="0">
            <a:noFill/>
          </a:ln>
        </p:spPr>
      </p:pic>
      <p:pic>
        <p:nvPicPr>
          <p:cNvPr id="529" name="Group 67" descr=""/>
          <p:cNvPicPr/>
          <p:nvPr/>
        </p:nvPicPr>
        <p:blipFill>
          <a:blip r:embed="rId21"/>
          <a:stretch/>
        </p:blipFill>
        <p:spPr>
          <a:xfrm>
            <a:off x="5389560" y="5089680"/>
            <a:ext cx="620640" cy="542880"/>
          </a:xfrm>
          <a:prstGeom prst="rect">
            <a:avLst/>
          </a:prstGeom>
          <a:ln w="0">
            <a:noFill/>
          </a:ln>
        </p:spPr>
      </p:pic>
      <p:pic>
        <p:nvPicPr>
          <p:cNvPr id="530" name="Group 70" descr=""/>
          <p:cNvPicPr/>
          <p:nvPr/>
        </p:nvPicPr>
        <p:blipFill>
          <a:blip r:embed="rId22"/>
          <a:stretch/>
        </p:blipFill>
        <p:spPr>
          <a:xfrm>
            <a:off x="6620040" y="4694400"/>
            <a:ext cx="761760" cy="1163520"/>
          </a:xfrm>
          <a:prstGeom prst="rect">
            <a:avLst/>
          </a:prstGeom>
          <a:ln w="0">
            <a:noFill/>
          </a:ln>
        </p:spPr>
      </p:pic>
      <p:pic>
        <p:nvPicPr>
          <p:cNvPr id="531" name="Group 73" descr=""/>
          <p:cNvPicPr/>
          <p:nvPr/>
        </p:nvPicPr>
        <p:blipFill>
          <a:blip r:embed="rId23"/>
          <a:stretch/>
        </p:blipFill>
        <p:spPr>
          <a:xfrm>
            <a:off x="5084640" y="5529240"/>
            <a:ext cx="1035000" cy="950760"/>
          </a:xfrm>
          <a:prstGeom prst="rect">
            <a:avLst/>
          </a:prstGeom>
          <a:ln w="0">
            <a:noFill/>
          </a:ln>
        </p:spPr>
      </p:pic>
      <p:pic>
        <p:nvPicPr>
          <p:cNvPr id="532" name="Group 76" descr=""/>
          <p:cNvPicPr/>
          <p:nvPr/>
        </p:nvPicPr>
        <p:blipFill>
          <a:blip r:embed="rId24"/>
          <a:stretch/>
        </p:blipFill>
        <p:spPr>
          <a:xfrm>
            <a:off x="6010200" y="5614920"/>
            <a:ext cx="665280" cy="474840"/>
          </a:xfrm>
          <a:prstGeom prst="rect">
            <a:avLst/>
          </a:prstGeom>
          <a:ln w="0">
            <a:noFill/>
          </a:ln>
        </p:spPr>
      </p:pic>
      <p:pic>
        <p:nvPicPr>
          <p:cNvPr id="533" name="Group 79" descr=""/>
          <p:cNvPicPr/>
          <p:nvPr/>
        </p:nvPicPr>
        <p:blipFill>
          <a:blip r:embed="rId25"/>
          <a:stretch/>
        </p:blipFill>
        <p:spPr>
          <a:xfrm>
            <a:off x="5827680" y="580392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534" name="Group 82" descr=""/>
          <p:cNvPicPr/>
          <p:nvPr/>
        </p:nvPicPr>
        <p:blipFill>
          <a:blip r:embed="rId26"/>
          <a:stretch/>
        </p:blipFill>
        <p:spPr>
          <a:xfrm>
            <a:off x="4834080" y="4432320"/>
            <a:ext cx="914400" cy="81612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85"/>
          <p:cNvGrpSpPr/>
          <p:nvPr/>
        </p:nvGrpSpPr>
        <p:grpSpPr>
          <a:xfrm>
            <a:off x="5411880" y="4048200"/>
            <a:ext cx="844560" cy="703080"/>
            <a:chOff x="5411880" y="4048200"/>
            <a:chExt cx="844560" cy="703080"/>
          </a:xfrm>
        </p:grpSpPr>
        <p:sp>
          <p:nvSpPr>
            <p:cNvPr id="536" name="Freeform 86"/>
            <p:cNvSpPr/>
            <p:nvPr/>
          </p:nvSpPr>
          <p:spPr>
            <a:xfrm>
              <a:off x="5411880" y="4048200"/>
              <a:ext cx="844560" cy="70308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03080"/>
                <a:gd name="textAreaBottom" fmla="*/ 703080 h 703080"/>
              </a:gdLst>
              <a:ahLst/>
              <a:rect l="textAreaLeft" t="textAreaTop" r="textAreaRight" b="textAreaBottom"/>
              <a:pathLst>
                <a:path w="928" h="782">
                  <a:moveTo>
                    <a:pt x="135" y="301"/>
                  </a:moveTo>
                  <a:lnTo>
                    <a:pt x="133" y="226"/>
                  </a:lnTo>
                  <a:lnTo>
                    <a:pt x="126" y="210"/>
                  </a:lnTo>
                  <a:lnTo>
                    <a:pt x="128" y="183"/>
                  </a:lnTo>
                  <a:lnTo>
                    <a:pt x="120" y="163"/>
                  </a:lnTo>
                  <a:lnTo>
                    <a:pt x="136" y="136"/>
                  </a:lnTo>
                  <a:lnTo>
                    <a:pt x="160" y="109"/>
                  </a:lnTo>
                  <a:lnTo>
                    <a:pt x="183" y="71"/>
                  </a:lnTo>
                  <a:lnTo>
                    <a:pt x="217" y="57"/>
                  </a:lnTo>
                  <a:lnTo>
                    <a:pt x="237" y="42"/>
                  </a:lnTo>
                  <a:lnTo>
                    <a:pt x="261" y="42"/>
                  </a:lnTo>
                  <a:lnTo>
                    <a:pt x="283" y="22"/>
                  </a:lnTo>
                  <a:lnTo>
                    <a:pt x="301" y="10"/>
                  </a:lnTo>
                  <a:lnTo>
                    <a:pt x="318" y="0"/>
                  </a:lnTo>
                  <a:lnTo>
                    <a:pt x="335" y="2"/>
                  </a:lnTo>
                  <a:lnTo>
                    <a:pt x="351" y="29"/>
                  </a:lnTo>
                  <a:lnTo>
                    <a:pt x="387" y="64"/>
                  </a:lnTo>
                  <a:lnTo>
                    <a:pt x="388" y="91"/>
                  </a:lnTo>
                  <a:lnTo>
                    <a:pt x="415" y="99"/>
                  </a:lnTo>
                  <a:lnTo>
                    <a:pt x="456" y="108"/>
                  </a:lnTo>
                  <a:lnTo>
                    <a:pt x="461" y="118"/>
                  </a:lnTo>
                  <a:lnTo>
                    <a:pt x="474" y="115"/>
                  </a:lnTo>
                  <a:lnTo>
                    <a:pt x="503" y="118"/>
                  </a:lnTo>
                  <a:lnTo>
                    <a:pt x="531" y="130"/>
                  </a:lnTo>
                  <a:lnTo>
                    <a:pt x="567" y="143"/>
                  </a:lnTo>
                  <a:lnTo>
                    <a:pt x="583" y="131"/>
                  </a:lnTo>
                  <a:lnTo>
                    <a:pt x="617" y="145"/>
                  </a:lnTo>
                  <a:lnTo>
                    <a:pt x="632" y="136"/>
                  </a:lnTo>
                  <a:lnTo>
                    <a:pt x="654" y="150"/>
                  </a:lnTo>
                  <a:lnTo>
                    <a:pt x="642" y="172"/>
                  </a:lnTo>
                  <a:lnTo>
                    <a:pt x="669" y="178"/>
                  </a:lnTo>
                  <a:lnTo>
                    <a:pt x="693" y="168"/>
                  </a:lnTo>
                  <a:lnTo>
                    <a:pt x="704" y="167"/>
                  </a:lnTo>
                  <a:lnTo>
                    <a:pt x="698" y="209"/>
                  </a:lnTo>
                  <a:lnTo>
                    <a:pt x="721" y="214"/>
                  </a:lnTo>
                  <a:lnTo>
                    <a:pt x="768" y="222"/>
                  </a:lnTo>
                  <a:lnTo>
                    <a:pt x="795" y="226"/>
                  </a:lnTo>
                  <a:lnTo>
                    <a:pt x="800" y="197"/>
                  </a:lnTo>
                  <a:lnTo>
                    <a:pt x="802" y="183"/>
                  </a:lnTo>
                  <a:lnTo>
                    <a:pt x="817" y="182"/>
                  </a:lnTo>
                  <a:lnTo>
                    <a:pt x="845" y="194"/>
                  </a:lnTo>
                  <a:lnTo>
                    <a:pt x="884" y="214"/>
                  </a:lnTo>
                  <a:lnTo>
                    <a:pt x="908" y="251"/>
                  </a:lnTo>
                  <a:lnTo>
                    <a:pt x="921" y="296"/>
                  </a:lnTo>
                  <a:lnTo>
                    <a:pt x="928" y="347"/>
                  </a:lnTo>
                  <a:lnTo>
                    <a:pt x="914" y="380"/>
                  </a:lnTo>
                  <a:lnTo>
                    <a:pt x="906" y="407"/>
                  </a:lnTo>
                  <a:lnTo>
                    <a:pt x="901" y="441"/>
                  </a:lnTo>
                  <a:lnTo>
                    <a:pt x="896" y="468"/>
                  </a:lnTo>
                  <a:lnTo>
                    <a:pt x="874" y="496"/>
                  </a:lnTo>
                  <a:lnTo>
                    <a:pt x="842" y="518"/>
                  </a:lnTo>
                  <a:lnTo>
                    <a:pt x="750" y="525"/>
                  </a:lnTo>
                  <a:lnTo>
                    <a:pt x="703" y="518"/>
                  </a:lnTo>
                  <a:lnTo>
                    <a:pt x="662" y="533"/>
                  </a:lnTo>
                  <a:lnTo>
                    <a:pt x="632" y="563"/>
                  </a:lnTo>
                  <a:lnTo>
                    <a:pt x="619" y="604"/>
                  </a:lnTo>
                  <a:lnTo>
                    <a:pt x="563" y="611"/>
                  </a:lnTo>
                  <a:lnTo>
                    <a:pt x="538" y="575"/>
                  </a:lnTo>
                  <a:lnTo>
                    <a:pt x="536" y="540"/>
                  </a:lnTo>
                  <a:lnTo>
                    <a:pt x="548" y="503"/>
                  </a:lnTo>
                  <a:lnTo>
                    <a:pt x="543" y="466"/>
                  </a:lnTo>
                  <a:lnTo>
                    <a:pt x="511" y="454"/>
                  </a:lnTo>
                  <a:lnTo>
                    <a:pt x="476" y="436"/>
                  </a:lnTo>
                  <a:lnTo>
                    <a:pt x="451" y="441"/>
                  </a:lnTo>
                  <a:lnTo>
                    <a:pt x="429" y="466"/>
                  </a:lnTo>
                  <a:lnTo>
                    <a:pt x="429" y="491"/>
                  </a:lnTo>
                  <a:lnTo>
                    <a:pt x="441" y="516"/>
                  </a:lnTo>
                  <a:lnTo>
                    <a:pt x="432" y="538"/>
                  </a:lnTo>
                  <a:lnTo>
                    <a:pt x="407" y="565"/>
                  </a:lnTo>
                  <a:lnTo>
                    <a:pt x="383" y="600"/>
                  </a:lnTo>
                  <a:lnTo>
                    <a:pt x="362" y="636"/>
                  </a:lnTo>
                  <a:lnTo>
                    <a:pt x="340" y="663"/>
                  </a:lnTo>
                  <a:lnTo>
                    <a:pt x="321" y="690"/>
                  </a:lnTo>
                  <a:lnTo>
                    <a:pt x="316" y="730"/>
                  </a:lnTo>
                  <a:lnTo>
                    <a:pt x="304" y="760"/>
                  </a:lnTo>
                  <a:lnTo>
                    <a:pt x="289" y="782"/>
                  </a:lnTo>
                  <a:lnTo>
                    <a:pt x="256" y="772"/>
                  </a:lnTo>
                  <a:lnTo>
                    <a:pt x="225" y="754"/>
                  </a:lnTo>
                  <a:lnTo>
                    <a:pt x="219" y="718"/>
                  </a:lnTo>
                  <a:lnTo>
                    <a:pt x="205" y="693"/>
                  </a:lnTo>
                  <a:lnTo>
                    <a:pt x="165" y="688"/>
                  </a:lnTo>
                  <a:lnTo>
                    <a:pt x="135" y="698"/>
                  </a:lnTo>
                  <a:lnTo>
                    <a:pt x="123" y="718"/>
                  </a:lnTo>
                  <a:lnTo>
                    <a:pt x="108" y="713"/>
                  </a:lnTo>
                  <a:lnTo>
                    <a:pt x="73" y="698"/>
                  </a:lnTo>
                  <a:lnTo>
                    <a:pt x="46" y="678"/>
                  </a:lnTo>
                  <a:lnTo>
                    <a:pt x="44" y="658"/>
                  </a:lnTo>
                  <a:lnTo>
                    <a:pt x="51" y="641"/>
                  </a:lnTo>
                  <a:lnTo>
                    <a:pt x="27" y="637"/>
                  </a:lnTo>
                  <a:lnTo>
                    <a:pt x="14" y="631"/>
                  </a:lnTo>
                  <a:lnTo>
                    <a:pt x="0" y="612"/>
                  </a:lnTo>
                  <a:lnTo>
                    <a:pt x="10" y="553"/>
                  </a:lnTo>
                  <a:lnTo>
                    <a:pt x="12" y="501"/>
                  </a:lnTo>
                  <a:lnTo>
                    <a:pt x="44" y="442"/>
                  </a:lnTo>
                  <a:lnTo>
                    <a:pt x="56" y="432"/>
                  </a:lnTo>
                  <a:lnTo>
                    <a:pt x="39" y="412"/>
                  </a:lnTo>
                  <a:lnTo>
                    <a:pt x="34" y="375"/>
                  </a:lnTo>
                  <a:lnTo>
                    <a:pt x="44" y="348"/>
                  </a:lnTo>
                  <a:lnTo>
                    <a:pt x="36" y="323"/>
                  </a:lnTo>
                  <a:lnTo>
                    <a:pt x="52" y="305"/>
                  </a:lnTo>
                  <a:lnTo>
                    <a:pt x="79" y="303"/>
                  </a:lnTo>
                  <a:lnTo>
                    <a:pt x="135" y="301"/>
                  </a:lnTo>
                  <a:close/>
                </a:path>
              </a:pathLst>
            </a:custGeom>
            <a:solidFill>
              <a:srgbClr val="ffff00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87"/>
            <p:cNvSpPr/>
            <p:nvPr/>
          </p:nvSpPr>
          <p:spPr>
            <a:xfrm>
              <a:off x="5669640" y="4196520"/>
              <a:ext cx="127080" cy="274680"/>
            </a:xfrm>
            <a:prstGeom prst="rect">
              <a:avLst/>
            </a:prstGeom>
            <a:solidFill>
              <a:srgbClr val="f5f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1a17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Group 88" descr=""/>
          <p:cNvPicPr/>
          <p:nvPr/>
        </p:nvPicPr>
        <p:blipFill>
          <a:blip r:embed="rId27"/>
          <a:stretch/>
        </p:blipFill>
        <p:spPr>
          <a:xfrm>
            <a:off x="4638600" y="21528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539" name="Group 91" descr=""/>
          <p:cNvPicPr/>
          <p:nvPr/>
        </p:nvPicPr>
        <p:blipFill>
          <a:blip r:embed="rId28"/>
          <a:stretch/>
        </p:blipFill>
        <p:spPr>
          <a:xfrm>
            <a:off x="5102280" y="1920960"/>
            <a:ext cx="744480" cy="931680"/>
          </a:xfrm>
          <a:prstGeom prst="rect">
            <a:avLst/>
          </a:prstGeom>
          <a:ln w="0">
            <a:noFill/>
          </a:ln>
        </p:spPr>
      </p:pic>
      <p:sp>
        <p:nvSpPr>
          <p:cNvPr id="540" name="Freeform 94"/>
          <p:cNvSpPr/>
          <p:nvPr/>
        </p:nvSpPr>
        <p:spPr>
          <a:xfrm>
            <a:off x="7097760" y="987480"/>
            <a:ext cx="976320" cy="1306440"/>
          </a:xfrm>
          <a:custGeom>
            <a:avLst/>
            <a:gdLst>
              <a:gd name="textAreaLeft" fmla="*/ 0 w 976320"/>
              <a:gd name="textAreaRight" fmla="*/ 976680 w 976320"/>
              <a:gd name="textAreaTop" fmla="*/ 0 h 1306440"/>
              <a:gd name="textAreaBottom" fmla="*/ 1306800 h 1306440"/>
            </a:gdLst>
            <a:ahLst/>
            <a:rect l="textAreaLeft" t="textAreaTop" r="textAreaRight" b="textAreaBottom"/>
            <a:pathLst>
              <a:path w="1077" h="1457">
                <a:moveTo>
                  <a:pt x="46" y="685"/>
                </a:moveTo>
                <a:lnTo>
                  <a:pt x="47" y="653"/>
                </a:lnTo>
                <a:lnTo>
                  <a:pt x="67" y="644"/>
                </a:lnTo>
                <a:lnTo>
                  <a:pt x="101" y="454"/>
                </a:lnTo>
                <a:lnTo>
                  <a:pt x="286" y="523"/>
                </a:lnTo>
                <a:lnTo>
                  <a:pt x="301" y="500"/>
                </a:lnTo>
                <a:lnTo>
                  <a:pt x="333" y="493"/>
                </a:lnTo>
                <a:lnTo>
                  <a:pt x="361" y="480"/>
                </a:lnTo>
                <a:lnTo>
                  <a:pt x="368" y="446"/>
                </a:lnTo>
                <a:lnTo>
                  <a:pt x="378" y="402"/>
                </a:lnTo>
                <a:lnTo>
                  <a:pt x="387" y="380"/>
                </a:lnTo>
                <a:lnTo>
                  <a:pt x="434" y="379"/>
                </a:lnTo>
                <a:lnTo>
                  <a:pt x="447" y="310"/>
                </a:lnTo>
                <a:lnTo>
                  <a:pt x="489" y="313"/>
                </a:lnTo>
                <a:lnTo>
                  <a:pt x="488" y="338"/>
                </a:lnTo>
                <a:lnTo>
                  <a:pt x="501" y="320"/>
                </a:lnTo>
                <a:lnTo>
                  <a:pt x="511" y="306"/>
                </a:lnTo>
                <a:lnTo>
                  <a:pt x="531" y="288"/>
                </a:lnTo>
                <a:lnTo>
                  <a:pt x="536" y="244"/>
                </a:lnTo>
                <a:lnTo>
                  <a:pt x="543" y="224"/>
                </a:lnTo>
                <a:lnTo>
                  <a:pt x="563" y="226"/>
                </a:lnTo>
                <a:lnTo>
                  <a:pt x="568" y="185"/>
                </a:lnTo>
                <a:lnTo>
                  <a:pt x="572" y="164"/>
                </a:lnTo>
                <a:lnTo>
                  <a:pt x="583" y="135"/>
                </a:lnTo>
                <a:lnTo>
                  <a:pt x="588" y="110"/>
                </a:lnTo>
                <a:lnTo>
                  <a:pt x="563" y="101"/>
                </a:lnTo>
                <a:lnTo>
                  <a:pt x="558" y="76"/>
                </a:lnTo>
                <a:lnTo>
                  <a:pt x="553" y="42"/>
                </a:lnTo>
                <a:lnTo>
                  <a:pt x="556" y="17"/>
                </a:lnTo>
                <a:lnTo>
                  <a:pt x="585" y="27"/>
                </a:lnTo>
                <a:lnTo>
                  <a:pt x="608" y="17"/>
                </a:lnTo>
                <a:lnTo>
                  <a:pt x="632" y="31"/>
                </a:lnTo>
                <a:lnTo>
                  <a:pt x="672" y="41"/>
                </a:lnTo>
                <a:lnTo>
                  <a:pt x="698" y="42"/>
                </a:lnTo>
                <a:lnTo>
                  <a:pt x="723" y="48"/>
                </a:lnTo>
                <a:lnTo>
                  <a:pt x="719" y="76"/>
                </a:lnTo>
                <a:lnTo>
                  <a:pt x="736" y="86"/>
                </a:lnTo>
                <a:lnTo>
                  <a:pt x="738" y="115"/>
                </a:lnTo>
                <a:lnTo>
                  <a:pt x="731" y="130"/>
                </a:lnTo>
                <a:lnTo>
                  <a:pt x="753" y="135"/>
                </a:lnTo>
                <a:lnTo>
                  <a:pt x="753" y="162"/>
                </a:lnTo>
                <a:lnTo>
                  <a:pt x="773" y="158"/>
                </a:lnTo>
                <a:lnTo>
                  <a:pt x="805" y="165"/>
                </a:lnTo>
                <a:lnTo>
                  <a:pt x="840" y="172"/>
                </a:lnTo>
                <a:lnTo>
                  <a:pt x="854" y="172"/>
                </a:lnTo>
                <a:lnTo>
                  <a:pt x="861" y="142"/>
                </a:lnTo>
                <a:lnTo>
                  <a:pt x="861" y="113"/>
                </a:lnTo>
                <a:lnTo>
                  <a:pt x="867" y="88"/>
                </a:lnTo>
                <a:lnTo>
                  <a:pt x="886" y="81"/>
                </a:lnTo>
                <a:lnTo>
                  <a:pt x="919" y="71"/>
                </a:lnTo>
                <a:lnTo>
                  <a:pt x="946" y="54"/>
                </a:lnTo>
                <a:lnTo>
                  <a:pt x="946" y="4"/>
                </a:lnTo>
                <a:lnTo>
                  <a:pt x="988" y="0"/>
                </a:lnTo>
                <a:lnTo>
                  <a:pt x="1000" y="34"/>
                </a:lnTo>
                <a:lnTo>
                  <a:pt x="1000" y="59"/>
                </a:lnTo>
                <a:lnTo>
                  <a:pt x="990" y="79"/>
                </a:lnTo>
                <a:lnTo>
                  <a:pt x="1008" y="83"/>
                </a:lnTo>
                <a:lnTo>
                  <a:pt x="1008" y="106"/>
                </a:lnTo>
                <a:lnTo>
                  <a:pt x="1032" y="103"/>
                </a:lnTo>
                <a:lnTo>
                  <a:pt x="1055" y="103"/>
                </a:lnTo>
                <a:lnTo>
                  <a:pt x="1071" y="113"/>
                </a:lnTo>
                <a:lnTo>
                  <a:pt x="1064" y="133"/>
                </a:lnTo>
                <a:lnTo>
                  <a:pt x="1072" y="158"/>
                </a:lnTo>
                <a:lnTo>
                  <a:pt x="1067" y="179"/>
                </a:lnTo>
                <a:lnTo>
                  <a:pt x="1062" y="206"/>
                </a:lnTo>
                <a:lnTo>
                  <a:pt x="1071" y="224"/>
                </a:lnTo>
                <a:lnTo>
                  <a:pt x="1077" y="243"/>
                </a:lnTo>
                <a:lnTo>
                  <a:pt x="1076" y="271"/>
                </a:lnTo>
                <a:lnTo>
                  <a:pt x="1059" y="310"/>
                </a:lnTo>
                <a:lnTo>
                  <a:pt x="1057" y="333"/>
                </a:lnTo>
                <a:lnTo>
                  <a:pt x="1044" y="360"/>
                </a:lnTo>
                <a:lnTo>
                  <a:pt x="1052" y="380"/>
                </a:lnTo>
                <a:lnTo>
                  <a:pt x="1049" y="406"/>
                </a:lnTo>
                <a:lnTo>
                  <a:pt x="1042" y="434"/>
                </a:lnTo>
                <a:lnTo>
                  <a:pt x="1045" y="473"/>
                </a:lnTo>
                <a:lnTo>
                  <a:pt x="1052" y="495"/>
                </a:lnTo>
                <a:lnTo>
                  <a:pt x="1039" y="528"/>
                </a:lnTo>
                <a:lnTo>
                  <a:pt x="1025" y="542"/>
                </a:lnTo>
                <a:lnTo>
                  <a:pt x="1017" y="574"/>
                </a:lnTo>
                <a:lnTo>
                  <a:pt x="1012" y="624"/>
                </a:lnTo>
                <a:lnTo>
                  <a:pt x="1005" y="665"/>
                </a:lnTo>
                <a:lnTo>
                  <a:pt x="988" y="671"/>
                </a:lnTo>
                <a:lnTo>
                  <a:pt x="968" y="695"/>
                </a:lnTo>
                <a:lnTo>
                  <a:pt x="948" y="718"/>
                </a:lnTo>
                <a:lnTo>
                  <a:pt x="940" y="732"/>
                </a:lnTo>
                <a:lnTo>
                  <a:pt x="923" y="734"/>
                </a:lnTo>
                <a:lnTo>
                  <a:pt x="919" y="757"/>
                </a:lnTo>
                <a:lnTo>
                  <a:pt x="921" y="794"/>
                </a:lnTo>
                <a:lnTo>
                  <a:pt x="916" y="831"/>
                </a:lnTo>
                <a:lnTo>
                  <a:pt x="909" y="856"/>
                </a:lnTo>
                <a:lnTo>
                  <a:pt x="906" y="873"/>
                </a:lnTo>
                <a:lnTo>
                  <a:pt x="896" y="890"/>
                </a:lnTo>
                <a:lnTo>
                  <a:pt x="881" y="902"/>
                </a:lnTo>
                <a:lnTo>
                  <a:pt x="887" y="920"/>
                </a:lnTo>
                <a:lnTo>
                  <a:pt x="904" y="927"/>
                </a:lnTo>
                <a:lnTo>
                  <a:pt x="909" y="939"/>
                </a:lnTo>
                <a:lnTo>
                  <a:pt x="889" y="969"/>
                </a:lnTo>
                <a:lnTo>
                  <a:pt x="894" y="993"/>
                </a:lnTo>
                <a:lnTo>
                  <a:pt x="892" y="1018"/>
                </a:lnTo>
                <a:lnTo>
                  <a:pt x="886" y="1038"/>
                </a:lnTo>
                <a:lnTo>
                  <a:pt x="889" y="1058"/>
                </a:lnTo>
                <a:lnTo>
                  <a:pt x="877" y="1092"/>
                </a:lnTo>
                <a:lnTo>
                  <a:pt x="866" y="1117"/>
                </a:lnTo>
                <a:lnTo>
                  <a:pt x="861" y="1144"/>
                </a:lnTo>
                <a:lnTo>
                  <a:pt x="847" y="1171"/>
                </a:lnTo>
                <a:lnTo>
                  <a:pt x="845" y="1194"/>
                </a:lnTo>
                <a:lnTo>
                  <a:pt x="845" y="1213"/>
                </a:lnTo>
                <a:lnTo>
                  <a:pt x="835" y="1260"/>
                </a:lnTo>
                <a:lnTo>
                  <a:pt x="824" y="1294"/>
                </a:lnTo>
                <a:lnTo>
                  <a:pt x="813" y="1325"/>
                </a:lnTo>
                <a:lnTo>
                  <a:pt x="807" y="1346"/>
                </a:lnTo>
                <a:lnTo>
                  <a:pt x="780" y="1374"/>
                </a:lnTo>
                <a:lnTo>
                  <a:pt x="795" y="1391"/>
                </a:lnTo>
                <a:lnTo>
                  <a:pt x="788" y="1404"/>
                </a:lnTo>
                <a:lnTo>
                  <a:pt x="793" y="1426"/>
                </a:lnTo>
                <a:lnTo>
                  <a:pt x="797" y="1457"/>
                </a:lnTo>
                <a:lnTo>
                  <a:pt x="703" y="1436"/>
                </a:lnTo>
                <a:lnTo>
                  <a:pt x="706" y="1389"/>
                </a:lnTo>
                <a:lnTo>
                  <a:pt x="711" y="1366"/>
                </a:lnTo>
                <a:lnTo>
                  <a:pt x="679" y="1357"/>
                </a:lnTo>
                <a:lnTo>
                  <a:pt x="696" y="1258"/>
                </a:lnTo>
                <a:lnTo>
                  <a:pt x="642" y="1241"/>
                </a:lnTo>
                <a:lnTo>
                  <a:pt x="659" y="1157"/>
                </a:lnTo>
                <a:lnTo>
                  <a:pt x="625" y="1140"/>
                </a:lnTo>
                <a:lnTo>
                  <a:pt x="645" y="1051"/>
                </a:lnTo>
                <a:lnTo>
                  <a:pt x="345" y="976"/>
                </a:lnTo>
                <a:lnTo>
                  <a:pt x="338" y="1024"/>
                </a:lnTo>
                <a:lnTo>
                  <a:pt x="267" y="1016"/>
                </a:lnTo>
                <a:lnTo>
                  <a:pt x="259" y="1030"/>
                </a:lnTo>
                <a:lnTo>
                  <a:pt x="229" y="1024"/>
                </a:lnTo>
                <a:lnTo>
                  <a:pt x="230" y="1046"/>
                </a:lnTo>
                <a:lnTo>
                  <a:pt x="131" y="1024"/>
                </a:lnTo>
                <a:lnTo>
                  <a:pt x="130" y="998"/>
                </a:lnTo>
                <a:lnTo>
                  <a:pt x="79" y="962"/>
                </a:lnTo>
                <a:lnTo>
                  <a:pt x="49" y="934"/>
                </a:lnTo>
                <a:lnTo>
                  <a:pt x="29" y="917"/>
                </a:lnTo>
                <a:lnTo>
                  <a:pt x="34" y="893"/>
                </a:lnTo>
                <a:lnTo>
                  <a:pt x="0" y="895"/>
                </a:lnTo>
                <a:lnTo>
                  <a:pt x="46" y="685"/>
                </a:lnTo>
                <a:close/>
              </a:path>
            </a:pathLst>
          </a:custGeom>
          <a:solidFill>
            <a:srgbClr val="00b0f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95"/>
          <p:cNvSpPr/>
          <p:nvPr/>
        </p:nvSpPr>
        <p:spPr>
          <a:xfrm>
            <a:off x="7599240" y="1368360"/>
            <a:ext cx="127080" cy="27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3"/>
          <p:cNvSpPr/>
          <p:nvPr/>
        </p:nvSpPr>
        <p:spPr>
          <a:xfrm>
            <a:off x="4964040" y="2790720"/>
            <a:ext cx="9144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d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 Кудымк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4998960" y="1365120"/>
            <a:ext cx="127080" cy="274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5823000" y="13651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4567320" y="2784600"/>
            <a:ext cx="253800" cy="274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8"/>
          <p:cNvSpPr/>
          <p:nvPr/>
        </p:nvSpPr>
        <p:spPr>
          <a:xfrm>
            <a:off x="4092480" y="1255680"/>
            <a:ext cx="127080" cy="274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5"/>
          <p:cNvSpPr/>
          <p:nvPr/>
        </p:nvSpPr>
        <p:spPr>
          <a:xfrm>
            <a:off x="7599240" y="1368360"/>
            <a:ext cx="127080" cy="27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55"/>
          <p:cNvSpPr/>
          <p:nvPr/>
        </p:nvSpPr>
        <p:spPr>
          <a:xfrm>
            <a:off x="6481800" y="2219400"/>
            <a:ext cx="1177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г. Березни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62"/>
          <p:cNvSpPr/>
          <p:nvPr/>
        </p:nvSpPr>
        <p:spPr>
          <a:xfrm>
            <a:off x="4964040" y="2790720"/>
            <a:ext cx="9144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d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 Кудымк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04"/>
          <p:cNvSpPr/>
          <p:nvPr/>
        </p:nvSpPr>
        <p:spPr>
          <a:xfrm>
            <a:off x="4998960" y="1365120"/>
            <a:ext cx="127080" cy="27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05"/>
          <p:cNvSpPr/>
          <p:nvPr/>
        </p:nvSpPr>
        <p:spPr>
          <a:xfrm>
            <a:off x="5823000" y="13651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6"/>
          <p:cNvSpPr/>
          <p:nvPr/>
        </p:nvSpPr>
        <p:spPr>
          <a:xfrm>
            <a:off x="4567320" y="2784600"/>
            <a:ext cx="253800" cy="27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7"/>
          <p:cNvSpPr/>
          <p:nvPr/>
        </p:nvSpPr>
        <p:spPr>
          <a:xfrm>
            <a:off x="4092480" y="1255680"/>
            <a:ext cx="127080" cy="27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8"/>
          <p:cNvSpPr/>
          <p:nvPr/>
        </p:nvSpPr>
        <p:spPr>
          <a:xfrm>
            <a:off x="7599240" y="1368360"/>
            <a:ext cx="127080" cy="274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1a1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0"/>
          <p:cNvSpPr/>
          <p:nvPr/>
        </p:nvSpPr>
        <p:spPr>
          <a:xfrm>
            <a:off x="5827680" y="4159080"/>
            <a:ext cx="79236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г. Перм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16"/>
          <p:cNvSpPr/>
          <p:nvPr/>
        </p:nvSpPr>
        <p:spPr>
          <a:xfrm>
            <a:off x="4964040" y="2790720"/>
            <a:ext cx="9144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d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г. Кудымка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11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0A2F-131E-40CC-BBCB-2846BE901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Line 7"/>
          <p:cNvSpPr/>
          <p:nvPr/>
        </p:nvSpPr>
        <p:spPr>
          <a:xfrm>
            <a:off x="4859280" y="404640"/>
            <a:ext cx="12600" cy="34956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Rectangle 17" descr=""/>
          <p:cNvPicPr/>
          <p:nvPr/>
        </p:nvPicPr>
        <p:blipFill>
          <a:blip r:embed="rId1"/>
          <a:stretch/>
        </p:blipFill>
        <p:spPr>
          <a:xfrm>
            <a:off x="2048040" y="-6480"/>
            <a:ext cx="5352840" cy="457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17"/>
          <p:cNvSpPr/>
          <p:nvPr/>
        </p:nvSpPr>
        <p:spPr>
          <a:xfrm>
            <a:off x="900000" y="4076640"/>
            <a:ext cx="2592360" cy="330120"/>
          </a:xfrm>
          <a:prstGeom prst="rect">
            <a:avLst/>
          </a:prstGeom>
          <a:solidFill>
            <a:srgbClr val="f4caf5"/>
          </a:solidFill>
          <a:ln w="15840">
            <a:solidFill>
              <a:srgbClr val="6b8a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7"/>
          <p:cNvSpPr/>
          <p:nvPr/>
        </p:nvSpPr>
        <p:spPr>
          <a:xfrm>
            <a:off x="900000" y="4581360"/>
            <a:ext cx="2592360" cy="576360"/>
          </a:xfrm>
          <a:prstGeom prst="rect">
            <a:avLst/>
          </a:prstGeom>
          <a:solidFill>
            <a:srgbClr val="f4caf5"/>
          </a:solidFill>
          <a:ln w="15840">
            <a:solidFill>
              <a:srgbClr val="6b8a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Rectangle 17" descr=""/>
          <p:cNvPicPr/>
          <p:nvPr/>
        </p:nvPicPr>
        <p:blipFill>
          <a:blip r:embed="rId2"/>
          <a:stretch/>
        </p:blipFill>
        <p:spPr>
          <a:xfrm>
            <a:off x="4492800" y="3925800"/>
            <a:ext cx="4485960" cy="19512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17"/>
          <p:cNvSpPr/>
          <p:nvPr/>
        </p:nvSpPr>
        <p:spPr>
          <a:xfrm>
            <a:off x="0" y="765000"/>
            <a:ext cx="9144000" cy="2880000"/>
          </a:xfrm>
          <a:prstGeom prst="rect">
            <a:avLst/>
          </a:prstGeom>
          <a:solidFill>
            <a:srgbClr val="c2e49c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WordArt 4" descr=""/>
          <p:cNvPicPr/>
          <p:nvPr/>
        </p:nvPicPr>
        <p:blipFill>
          <a:blip r:embed="rId3"/>
          <a:stretch/>
        </p:blipFill>
        <p:spPr>
          <a:xfrm>
            <a:off x="804960" y="658800"/>
            <a:ext cx="754056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Line 8"/>
          <p:cNvSpPr/>
          <p:nvPr/>
        </p:nvSpPr>
        <p:spPr>
          <a:xfrm>
            <a:off x="4932360" y="3645000"/>
            <a:ext cx="0" cy="28872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9"/>
          <p:cNvSpPr/>
          <p:nvPr/>
        </p:nvSpPr>
        <p:spPr>
          <a:xfrm>
            <a:off x="4284720" y="4581360"/>
            <a:ext cx="216000" cy="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0"/>
          <p:cNvSpPr/>
          <p:nvPr/>
        </p:nvSpPr>
        <p:spPr>
          <a:xfrm flipH="1">
            <a:off x="3635280" y="4581360"/>
            <a:ext cx="720720" cy="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2"/>
          <p:cNvSpPr/>
          <p:nvPr/>
        </p:nvSpPr>
        <p:spPr>
          <a:xfrm>
            <a:off x="4572000" y="390600"/>
            <a:ext cx="360" cy="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4572000" y="628560"/>
            <a:ext cx="360" cy="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4572000" y="1095480"/>
            <a:ext cx="360" cy="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1800" y="146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0" y="3594240"/>
            <a:ext cx="360" cy="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1800" y="39747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2"/>
          <p:cNvSpPr/>
          <p:nvPr/>
        </p:nvSpPr>
        <p:spPr>
          <a:xfrm>
            <a:off x="4859280" y="1700280"/>
            <a:ext cx="0" cy="36036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6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507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8"/>
          <p:cNvSpPr/>
          <p:nvPr/>
        </p:nvSpPr>
        <p:spPr>
          <a:xfrm>
            <a:off x="2050920" y="2060640"/>
            <a:ext cx="12960" cy="3492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0"/>
          <p:cNvSpPr/>
          <p:nvPr/>
        </p:nvSpPr>
        <p:spPr>
          <a:xfrm>
            <a:off x="1403280" y="2060640"/>
            <a:ext cx="0" cy="10080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8675640" y="2060640"/>
            <a:ext cx="12600" cy="3492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7"/>
          <p:cNvSpPr/>
          <p:nvPr/>
        </p:nvSpPr>
        <p:spPr>
          <a:xfrm>
            <a:off x="468360" y="2781360"/>
            <a:ext cx="0" cy="2087640"/>
          </a:xfrm>
          <a:prstGeom prst="line">
            <a:avLst/>
          </a:prstGeom>
          <a:ln w="507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0"/>
          <p:cNvSpPr/>
          <p:nvPr/>
        </p:nvSpPr>
        <p:spPr>
          <a:xfrm>
            <a:off x="468360" y="4292640"/>
            <a:ext cx="431640" cy="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1"/>
          <p:cNvSpPr/>
          <p:nvPr/>
        </p:nvSpPr>
        <p:spPr>
          <a:xfrm>
            <a:off x="5724360" y="2060640"/>
            <a:ext cx="12960" cy="3492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0"/>
          <p:cNvSpPr/>
          <p:nvPr/>
        </p:nvSpPr>
        <p:spPr>
          <a:xfrm>
            <a:off x="468360" y="2060640"/>
            <a:ext cx="12600" cy="3492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0"/>
          <p:cNvSpPr/>
          <p:nvPr/>
        </p:nvSpPr>
        <p:spPr>
          <a:xfrm>
            <a:off x="4356000" y="2060640"/>
            <a:ext cx="12960" cy="3492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0"/>
          <p:cNvSpPr/>
          <p:nvPr/>
        </p:nvSpPr>
        <p:spPr>
          <a:xfrm>
            <a:off x="7236000" y="2060640"/>
            <a:ext cx="12600" cy="3492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Номер слайда 58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8A3D-7753-49C0-A99C-F1C8BC4F0E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TextBox 58" descr=""/>
          <p:cNvPicPr/>
          <p:nvPr/>
        </p:nvPicPr>
        <p:blipFill>
          <a:blip r:embed="rId4"/>
          <a:stretch/>
        </p:blipFill>
        <p:spPr>
          <a:xfrm>
            <a:off x="895320" y="3060720"/>
            <a:ext cx="1025640" cy="420840"/>
          </a:xfrm>
          <a:prstGeom prst="rect">
            <a:avLst/>
          </a:prstGeom>
          <a:ln w="0">
            <a:noFill/>
          </a:ln>
        </p:spPr>
      </p:pic>
      <p:pic>
        <p:nvPicPr>
          <p:cNvPr id="588" name="TextBox 59" descr=""/>
          <p:cNvPicPr/>
          <p:nvPr/>
        </p:nvPicPr>
        <p:blipFill>
          <a:blip r:embed="rId5"/>
          <a:stretch/>
        </p:blipFill>
        <p:spPr>
          <a:xfrm>
            <a:off x="-6480" y="2414520"/>
            <a:ext cx="1206720" cy="425520"/>
          </a:xfrm>
          <a:prstGeom prst="rect">
            <a:avLst/>
          </a:prstGeom>
          <a:ln w="0">
            <a:noFill/>
          </a:ln>
        </p:spPr>
      </p:pic>
      <p:pic>
        <p:nvPicPr>
          <p:cNvPr id="589" name="TextBox 60" descr=""/>
          <p:cNvPicPr/>
          <p:nvPr/>
        </p:nvPicPr>
        <p:blipFill>
          <a:blip r:embed="rId6"/>
          <a:stretch/>
        </p:blipFill>
        <p:spPr>
          <a:xfrm>
            <a:off x="1542960" y="2414520"/>
            <a:ext cx="1024200" cy="420840"/>
          </a:xfrm>
          <a:prstGeom prst="rect">
            <a:avLst/>
          </a:prstGeom>
          <a:ln w="0">
            <a:noFill/>
          </a:ln>
        </p:spPr>
      </p:pic>
      <p:pic>
        <p:nvPicPr>
          <p:cNvPr id="590" name="TextBox 61" descr=""/>
          <p:cNvPicPr/>
          <p:nvPr/>
        </p:nvPicPr>
        <p:blipFill>
          <a:blip r:embed="rId7"/>
          <a:stretch/>
        </p:blipFill>
        <p:spPr>
          <a:xfrm>
            <a:off x="2262240" y="3060720"/>
            <a:ext cx="809640" cy="431640"/>
          </a:xfrm>
          <a:prstGeom prst="rect">
            <a:avLst/>
          </a:prstGeom>
          <a:ln w="0">
            <a:noFill/>
          </a:ln>
        </p:spPr>
      </p:pic>
      <p:sp>
        <p:nvSpPr>
          <p:cNvPr id="591" name="Line 30"/>
          <p:cNvSpPr/>
          <p:nvPr/>
        </p:nvSpPr>
        <p:spPr>
          <a:xfrm>
            <a:off x="2700360" y="2060640"/>
            <a:ext cx="0" cy="10080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8"/>
          <p:cNvSpPr/>
          <p:nvPr/>
        </p:nvSpPr>
        <p:spPr>
          <a:xfrm>
            <a:off x="3203640" y="2060640"/>
            <a:ext cx="12600" cy="3492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extBox 64" descr=""/>
          <p:cNvPicPr/>
          <p:nvPr/>
        </p:nvPicPr>
        <p:blipFill>
          <a:blip r:embed="rId8"/>
          <a:stretch/>
        </p:blipFill>
        <p:spPr>
          <a:xfrm>
            <a:off x="2840040" y="2414520"/>
            <a:ext cx="738360" cy="420840"/>
          </a:xfrm>
          <a:prstGeom prst="rect">
            <a:avLst/>
          </a:prstGeom>
          <a:ln w="0">
            <a:noFill/>
          </a:ln>
        </p:spPr>
      </p:pic>
      <p:pic>
        <p:nvPicPr>
          <p:cNvPr id="594" name="TextBox 65" descr=""/>
          <p:cNvPicPr/>
          <p:nvPr/>
        </p:nvPicPr>
        <p:blipFill>
          <a:blip r:embed="rId9"/>
          <a:stretch/>
        </p:blipFill>
        <p:spPr>
          <a:xfrm>
            <a:off x="3267000" y="3060720"/>
            <a:ext cx="884160" cy="420840"/>
          </a:xfrm>
          <a:prstGeom prst="rect">
            <a:avLst/>
          </a:prstGeom>
          <a:ln w="0">
            <a:noFill/>
          </a:ln>
        </p:spPr>
      </p:pic>
      <p:sp>
        <p:nvSpPr>
          <p:cNvPr id="595" name="Line 30"/>
          <p:cNvSpPr/>
          <p:nvPr/>
        </p:nvSpPr>
        <p:spPr>
          <a:xfrm>
            <a:off x="3708360" y="2060640"/>
            <a:ext cx="0" cy="10080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TextBox 67" descr=""/>
          <p:cNvPicPr/>
          <p:nvPr/>
        </p:nvPicPr>
        <p:blipFill>
          <a:blip r:embed="rId10"/>
          <a:stretch/>
        </p:blipFill>
        <p:spPr>
          <a:xfrm>
            <a:off x="3992400" y="2414520"/>
            <a:ext cx="738360" cy="425520"/>
          </a:xfrm>
          <a:prstGeom prst="rect">
            <a:avLst/>
          </a:prstGeom>
          <a:ln w="0">
            <a:noFill/>
          </a:ln>
        </p:spPr>
      </p:pic>
      <p:pic>
        <p:nvPicPr>
          <p:cNvPr id="597" name="TextBox 68" descr=""/>
          <p:cNvPicPr/>
          <p:nvPr/>
        </p:nvPicPr>
        <p:blipFill>
          <a:blip r:embed="rId11"/>
          <a:stretch/>
        </p:blipFill>
        <p:spPr>
          <a:xfrm>
            <a:off x="4280040" y="3060720"/>
            <a:ext cx="1670040" cy="420840"/>
          </a:xfrm>
          <a:prstGeom prst="rect">
            <a:avLst/>
          </a:prstGeom>
          <a:ln w="0">
            <a:noFill/>
          </a:ln>
        </p:spPr>
      </p:pic>
      <p:sp>
        <p:nvSpPr>
          <p:cNvPr id="598" name="Line 30"/>
          <p:cNvSpPr/>
          <p:nvPr/>
        </p:nvSpPr>
        <p:spPr>
          <a:xfrm>
            <a:off x="5076720" y="2060640"/>
            <a:ext cx="0" cy="10080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TextBox 70" descr=""/>
          <p:cNvPicPr/>
          <p:nvPr/>
        </p:nvPicPr>
        <p:blipFill>
          <a:blip r:embed="rId12"/>
          <a:stretch/>
        </p:blipFill>
        <p:spPr>
          <a:xfrm>
            <a:off x="6076800" y="3060720"/>
            <a:ext cx="884520" cy="420840"/>
          </a:xfrm>
          <a:prstGeom prst="rect">
            <a:avLst/>
          </a:prstGeom>
          <a:ln w="0">
            <a:noFill/>
          </a:ln>
        </p:spPr>
      </p:pic>
      <p:pic>
        <p:nvPicPr>
          <p:cNvPr id="600" name="TextBox 71" descr=""/>
          <p:cNvPicPr/>
          <p:nvPr/>
        </p:nvPicPr>
        <p:blipFill>
          <a:blip r:embed="rId13"/>
          <a:stretch/>
        </p:blipFill>
        <p:spPr>
          <a:xfrm>
            <a:off x="6656400" y="2414520"/>
            <a:ext cx="1171440" cy="420840"/>
          </a:xfrm>
          <a:prstGeom prst="rect">
            <a:avLst/>
          </a:prstGeom>
          <a:ln w="0">
            <a:noFill/>
          </a:ln>
        </p:spPr>
      </p:pic>
      <p:pic>
        <p:nvPicPr>
          <p:cNvPr id="601" name="TextBox 72" descr=""/>
          <p:cNvPicPr/>
          <p:nvPr/>
        </p:nvPicPr>
        <p:blipFill>
          <a:blip r:embed="rId14"/>
          <a:stretch/>
        </p:blipFill>
        <p:spPr>
          <a:xfrm>
            <a:off x="5284800" y="2414520"/>
            <a:ext cx="1023840" cy="420840"/>
          </a:xfrm>
          <a:prstGeom prst="rect">
            <a:avLst/>
          </a:prstGeom>
          <a:ln w="0">
            <a:noFill/>
          </a:ln>
        </p:spPr>
      </p:pic>
      <p:sp>
        <p:nvSpPr>
          <p:cNvPr id="602" name="Line 30"/>
          <p:cNvSpPr/>
          <p:nvPr/>
        </p:nvSpPr>
        <p:spPr>
          <a:xfrm>
            <a:off x="6516720" y="2060640"/>
            <a:ext cx="0" cy="10080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0"/>
          <p:cNvSpPr/>
          <p:nvPr/>
        </p:nvSpPr>
        <p:spPr>
          <a:xfrm>
            <a:off x="8028000" y="2060640"/>
            <a:ext cx="0" cy="100800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TextBox 75" descr=""/>
          <p:cNvPicPr/>
          <p:nvPr/>
        </p:nvPicPr>
        <p:blipFill>
          <a:blip r:embed="rId15"/>
          <a:stretch/>
        </p:blipFill>
        <p:spPr>
          <a:xfrm>
            <a:off x="7083360" y="3060720"/>
            <a:ext cx="1927440" cy="420840"/>
          </a:xfrm>
          <a:prstGeom prst="rect">
            <a:avLst/>
          </a:prstGeom>
          <a:ln w="0">
            <a:noFill/>
          </a:ln>
        </p:spPr>
      </p:pic>
      <p:sp>
        <p:nvSpPr>
          <p:cNvPr id="605" name="Line 40"/>
          <p:cNvSpPr/>
          <p:nvPr/>
        </p:nvSpPr>
        <p:spPr>
          <a:xfrm>
            <a:off x="468360" y="4869000"/>
            <a:ext cx="431640" cy="0"/>
          </a:xfrm>
          <a:prstGeom prst="line">
            <a:avLst/>
          </a:prstGeom>
          <a:ln w="57240">
            <a:solidFill>
              <a:srgbClr val="c0654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TextBox 78" descr=""/>
          <p:cNvPicPr/>
          <p:nvPr/>
        </p:nvPicPr>
        <p:blipFill>
          <a:blip r:embed="rId16"/>
          <a:stretch/>
        </p:blipFill>
        <p:spPr>
          <a:xfrm>
            <a:off x="901800" y="4578480"/>
            <a:ext cx="2663640" cy="633240"/>
          </a:xfrm>
          <a:prstGeom prst="rect">
            <a:avLst/>
          </a:prstGeom>
          <a:ln w="0">
            <a:noFill/>
          </a:ln>
        </p:spPr>
      </p:pic>
      <p:pic>
        <p:nvPicPr>
          <p:cNvPr id="607" name="TextBox 79" descr=""/>
          <p:cNvPicPr/>
          <p:nvPr/>
        </p:nvPicPr>
        <p:blipFill>
          <a:blip r:embed="rId17"/>
          <a:stretch/>
        </p:blipFill>
        <p:spPr>
          <a:xfrm>
            <a:off x="901800" y="4078440"/>
            <a:ext cx="2517840" cy="384120"/>
          </a:xfrm>
          <a:prstGeom prst="rect">
            <a:avLst/>
          </a:prstGeom>
          <a:ln w="0">
            <a:noFill/>
          </a:ln>
        </p:spPr>
      </p:pic>
      <p:sp>
        <p:nvSpPr>
          <p:cNvPr id="608" name="Line 37"/>
          <p:cNvSpPr/>
          <p:nvPr/>
        </p:nvSpPr>
        <p:spPr>
          <a:xfrm>
            <a:off x="3635280" y="4149720"/>
            <a:ext cx="0" cy="863640"/>
          </a:xfrm>
          <a:prstGeom prst="line">
            <a:avLst/>
          </a:prstGeom>
          <a:ln w="507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7"/>
          <p:cNvSpPr/>
          <p:nvPr/>
        </p:nvSpPr>
        <p:spPr>
          <a:xfrm flipV="1">
            <a:off x="3492360" y="4149720"/>
            <a:ext cx="142920" cy="7920"/>
          </a:xfrm>
          <a:prstGeom prst="line">
            <a:avLst/>
          </a:prstGeom>
          <a:ln w="507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7"/>
          <p:cNvSpPr/>
          <p:nvPr/>
        </p:nvSpPr>
        <p:spPr>
          <a:xfrm flipV="1">
            <a:off x="3492360" y="5013360"/>
            <a:ext cx="142920" cy="7920"/>
          </a:xfrm>
          <a:prstGeom prst="line">
            <a:avLst/>
          </a:prstGeom>
          <a:ln w="507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87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8"/>
          <p:cNvSpPr/>
          <p:nvPr/>
        </p:nvSpPr>
        <p:spPr>
          <a:xfrm>
            <a:off x="198000" y="6021360"/>
            <a:ext cx="59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* - организация работы государственных лесных инспект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9"/>
          <p:cNvSpPr/>
          <p:nvPr/>
        </p:nvSpPr>
        <p:spPr>
          <a:xfrm>
            <a:off x="210600" y="6237360"/>
            <a:ext cx="65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** - контроль ведения расследований по выявлению лесонару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4"/>
          <p:cNvGrpSpPr/>
          <p:nvPr/>
        </p:nvGrpSpPr>
        <p:grpSpPr>
          <a:xfrm>
            <a:off x="190440" y="1268280"/>
            <a:ext cx="8759520" cy="4560840"/>
            <a:chOff x="190440" y="1268280"/>
            <a:chExt cx="8759520" cy="4560840"/>
          </a:xfrm>
        </p:grpSpPr>
        <p:sp>
          <p:nvSpPr>
            <p:cNvPr id="615" name="AutoShape 23"/>
            <p:cNvSpPr/>
            <p:nvPr/>
          </p:nvSpPr>
          <p:spPr>
            <a:xfrm>
              <a:off x="384480" y="2640960"/>
              <a:ext cx="8565480" cy="3188160"/>
            </a:xfrm>
            <a:prstGeom prst="flowChartAlternateProcess">
              <a:avLst/>
            </a:prstGeom>
            <a:solidFill>
              <a:srgbClr val="bec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AutoShape 22" descr=""/>
            <p:cNvPicPr/>
            <p:nvPr/>
          </p:nvPicPr>
          <p:blipFill>
            <a:blip r:embed="rId1"/>
            <a:stretch/>
          </p:blipFill>
          <p:spPr>
            <a:xfrm>
              <a:off x="190440" y="1268280"/>
              <a:ext cx="866088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20"/>
            <p:cNvSpPr/>
            <p:nvPr/>
          </p:nvSpPr>
          <p:spPr>
            <a:xfrm>
              <a:off x="640800" y="2976480"/>
              <a:ext cx="2512800" cy="1054800"/>
            </a:xfrm>
            <a:prstGeom prst="rect">
              <a:avLst/>
            </a:prstGeom>
            <a:solidFill>
              <a:srgbClr val="e8f2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Заключение соглашений о взаимодейств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8"/>
            <p:cNvSpPr/>
            <p:nvPr/>
          </p:nvSpPr>
          <p:spPr>
            <a:xfrm>
              <a:off x="5686560" y="2976480"/>
              <a:ext cx="2670840" cy="1054800"/>
            </a:xfrm>
            <a:prstGeom prst="rect">
              <a:avLst/>
            </a:prstGeom>
            <a:solidFill>
              <a:srgbClr val="e8f2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оздание мобильных патрульных груп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7"/>
            <p:cNvSpPr/>
            <p:nvPr/>
          </p:nvSpPr>
          <p:spPr>
            <a:xfrm>
              <a:off x="3391920" y="2976480"/>
              <a:ext cx="2087280" cy="1054800"/>
            </a:xfrm>
            <a:prstGeom prst="rect">
              <a:avLst/>
            </a:prstGeom>
            <a:solidFill>
              <a:srgbClr val="e8f2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Утверждение план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6"/>
            <p:cNvSpPr/>
            <p:nvPr/>
          </p:nvSpPr>
          <p:spPr>
            <a:xfrm>
              <a:off x="5119200" y="4293720"/>
              <a:ext cx="1827360" cy="1043280"/>
            </a:xfrm>
            <a:prstGeom prst="rect">
              <a:avLst/>
            </a:prstGeom>
            <a:solidFill>
              <a:srgbClr val="e8f2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оведение рейдов и провер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1809720" y="4293720"/>
              <a:ext cx="1941480" cy="1043280"/>
            </a:xfrm>
            <a:prstGeom prst="rect">
              <a:avLst/>
            </a:prstGeom>
            <a:solidFill>
              <a:srgbClr val="e8f2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оздание стационарных пос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2" name="Rectangle 25" descr=""/>
          <p:cNvPicPr/>
          <p:nvPr/>
        </p:nvPicPr>
        <p:blipFill>
          <a:blip r:embed="rId2"/>
          <a:stretch/>
        </p:blipFill>
        <p:spPr>
          <a:xfrm>
            <a:off x="201600" y="146160"/>
            <a:ext cx="8631360" cy="84132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3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Номер слайда 1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02B6-7536-4E86-A936-3021F2D73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нализ результатов работы территориальных межведомственных комиссий за 2013 год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26" name="Содержимое 5" descr=""/>
          <p:cNvPicPr/>
          <p:nvPr/>
        </p:nvPicPr>
        <p:blipFill>
          <a:blip r:embed="rId1"/>
          <a:stretch/>
        </p:blipFill>
        <p:spPr>
          <a:xfrm>
            <a:off x="1432080" y="1450800"/>
            <a:ext cx="7503840" cy="4797720"/>
          </a:xfrm>
          <a:prstGeom prst="rect">
            <a:avLst/>
          </a:prstGeom>
          <a:ln w="0">
            <a:noFill/>
          </a:ln>
        </p:spPr>
      </p:pic>
      <p:sp>
        <p:nvSpPr>
          <p:cNvPr id="627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90E6-08D6-4746-92FA-F739277E0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09:10:26Z</dcterms:created>
  <dc:creator>vvgruzdev</dc:creator>
  <dc:description/>
  <dc:language>en-US</dc:language>
  <cp:lastModifiedBy>Ерусланова Людмила Борисовна</cp:lastModifiedBy>
  <cp:lastPrinted>2013-11-25T13:19:43Z</cp:lastPrinted>
  <dcterms:modified xsi:type="dcterms:W3CDTF">2016-06-24T03:34:53Z</dcterms:modified>
  <cp:revision>241</cp:revision>
  <dc:subject/>
  <dc:title>Слайд 1</dc:title>
</cp:coreProperties>
</file>